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DDA-082A-4207-BE00-60F74829C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9B8-8637-4E2F-938A-E4EC4E407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B5F6-BEB3-42C4-BCC2-534D108A5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457-E2E5-4CCA-81A1-C2D924200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DAB-F393-47BB-8B72-E669B50FD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CC9A-C28E-4789-92CA-8C55EA683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EA3-923E-40C1-8EFE-C60B208E4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7AA1-91A0-4BFD-ADC1-4C3D58479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156E-1A8E-4F07-AD37-7BB355C98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7E12-D0FB-402E-BD9E-BA93DFC15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E16-2EE7-4A78-8257-05F37FECD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A82-97D1-47DD-A0FC-D3D05676E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7AE-C641-412B-8A75-0E78AB421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7BE0-0C37-4611-B856-5EE6C6BF4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E45-1DA2-437F-9BB0-100F1313A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7839-9C18-463E-9C8A-0BBAD8396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B23-AB84-4CEE-BFA2-2517B63C3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9BD-C89C-4F86-861B-4E090D5AE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C67-2266-4A6A-ADD9-3C2938EF5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A9C-C8F8-41AC-959C-0E0034EEF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359-1721-483F-937D-056A2F270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F7F-B06C-4155-96B9-3B671F6FC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C6C-E183-4AFC-B3BA-94A16CEA0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F821-652C-4DDF-8D6C-02240A787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9E87-D7EB-4C60-B8FA-7AC583294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865-0A21-4F46-B658-1A8B20BA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38E-12A9-4CAA-83D4-670D20CA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AC-4E02-4003-AD65-5B11EA52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6FE-76F5-4865-A832-1E90644F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F520-5C8F-48A9-864F-2F4D2E30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E832-5B57-4FDB-9D80-A6EA815E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DCCD-86AD-40FB-ABF6-B704630C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F1C-7497-46D3-9C0D-326407D2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C9E5-45D6-4E63-91A6-2AC4BB8D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AB67-A313-4A08-B86E-EA8D73A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A852-9E11-4753-BBDA-E170A7D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593-9835-4A20-855A-CF0B0338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721E-2580-4496-9E81-264BD0D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25B8-D65B-47F4-8E4D-8494193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6E0-B47A-41D6-AE92-28D4852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258-8443-4C13-82BF-36557F0C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04B-065C-4E0A-B93F-AB7A0DFF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BFB-E4E1-457B-8597-196B10DE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5A6-7AA9-4A6D-ADC2-60EB479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BFC-808D-42FF-8F9D-C7ACBD3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9C5-012F-4B56-82FF-C71D5CE3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335-5D04-4E62-91B3-A1412C5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541-0EB0-4F25-80DD-8223CAA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783-5FA9-4F2C-80C3-640A3F5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B41-71D8-4C1F-85D9-5BB2F0594C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DD0-4C53-40EA-988B-C069493D0D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И ПЛАН РАБОТЫ ПРОФИЛЬНОЙ КОМИССИИ ПО СУДЕБНО-МЕДИЦИНСКОЙ ЭКСПЕРТИЗЕ ЭКСПЕРТНОГО СОВЕТА МИНЗДРАВСОЦРАЗВИТИЯ РОССИИ В СФЕРЕ ЗДРАВООХРА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роектами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8760" y="168264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10н от 11 августа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организации в Министерстве здравоохранения и социального развития Российской Федерации работы по разработке порядков оказания отдельных видов (по профилям) медицинской помощи и стандартов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42800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о Положение об организации работы по разработке порядков оказания отдельных видов (по профилям)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 рабочей группы по разработке проекта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28720" y="1500120"/>
            <a:ext cx="7775640" cy="48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шинян Гурген Ама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офеев Сергей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лин Никола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елев Николай Сераф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о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син Владислав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ую помощь в работе оказ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к Евгений Саве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 Александр Серг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венсон Михаил Семе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инов Евгений Христоф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роектами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28760" y="1285920"/>
            <a:ext cx="84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ошедший период (с ноября 2008 г. по апрель 2009 г.) состоялось три расширенных заседания рабочей группы: в Екатеринбурге (организационное), в Москве и Сузда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их были рассмотрены наиболее актуальные вопросы, относящиеся к работе профильной комиссии, а также проекты документов о порядке производства судебно-медицинской эксперти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ция о производстве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Бюро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структурном подразделении Бюро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враче – судебно-медицинском экспер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й табель оснащения Бюро судебно-медицинской экспертизы, его структурных подразде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мые штатные нормативы Бюро судебно-медицинской экспертизы, его структурных подразде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овещания в Кирове данные документы должны быть переданы в Минздравсоцразвития России для окончательного 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одготовке проектов стандартов и протоколов судебно-медицинской экспертизы трупа, живого лица, вещественных доказательств и по материалам 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8760" y="171468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10н от 11 августа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организации в Министерстве здравоохранения и социального развития Российской Федерации работы по разработке порядков оказания отдельных видов (по профилям) медицинской помощи и стандартов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95280" y="42800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о Положение об организации работы по разработке стандартов оказания отдельных видов (по профилям)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группа по подготовке проектов стандартов и протоколов судебно-медицинской эксперти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28720" y="1711440"/>
            <a:ext cx="77756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дашкин Анатолий Пантел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хорев Виктор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ун Валер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 Евгений Фелик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шутин Владимир Льв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ридонов Валерий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аков Андрей Вад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РЦСМЭ и питерских кол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по подготовке проектов стандартов и протоколов судебно-медицинской эксперти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8760" y="1285920"/>
            <a:ext cx="8429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ы предложения (представленные в Минздравсоцразвития России 25 ноября 2008 г.) по разработке стандартов и протоколов судебно-медицинской экспертизы, вклю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ние объекта (трупа, живого лица, вещественных доказательств, по материалам дел) и вида (первичная, дополнительная, повторная) судебно-медицинской эксперт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первичных (непосредственных) экспертных исследований с указанием количества и частоты их прове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дополнительных и лабораторных экспертных исследований с указанием количества и частоты их прове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материалов, иллюстрирующих экспертное исследование, с указанием коли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дорогостоящих экспертиз, использующих современные высокотехнологические методы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специалистов (медицинского и немедицинского профиля), привлекаемых в качестве экспертов к комиссионным (комплексным) экспертизам, и консультаций с указанием их количества и част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ый график реализации работ по разработки стандартов и протоколов судебно-медицинской эксперти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214720"/>
          <a:ext cx="8105760" cy="3714480"/>
        </p:xfrm>
        <a:graphic>
          <a:graphicData uri="http://schemas.openxmlformats.org/drawingml/2006/table">
            <a:tbl>
              <a:tblPr/>
              <a:tblGrid>
                <a:gridCol w="452520"/>
                <a:gridCol w="5370480"/>
                <a:gridCol w="22827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птимизация реестра медицинских услуг и номенклатуры работ и услуг в здравоохран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июня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Минздравсоцразвития России  проекта стандартов и протоколов судебно-медицинской эксперти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ентября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ие и утверждение Минздравсоцразвития России стандартов протоколов судебно-медицинской эксперти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28720" y="1428840"/>
            <a:ext cx="7775640" cy="48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кутин Виктор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шинян Гурген Ама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офеев Сергей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елев Николай Сераф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ов Аркадий Петр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лавский Григорий Иосиф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о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гматуллин Наиль Шам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28720" y="1571760"/>
            <a:ext cx="77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спешной работы по данному направлению рабочая группа просит начальников Бюро судебно-медицинской экспертизы субъектов России подготовить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 1 июля 2009 г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состоянии бюро и объеме их экспертной деятельности, включ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кую характеристику Бюро СМЭ и его фил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кадровом составе и профессиональной подготовке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 об экспертизах жив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видах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комиссионных и комплексных экспертиз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ный график реализации работ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58640"/>
                <a:gridCol w="5585040"/>
                <a:gridCol w="21859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наличия и состояния медицинской техники, аппаратуры и медицинских изделий Бюро СМЭ субъектов РФ и их соответствия для производства судебно-медицинских эксперт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недренных современных медицинских технологий производства судебно-медицинских экспертиз и представление в Департамент предложений по реализации совершенствования механизмов их внед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Минздравсоцразвития России предложений по стратегии развития службы с акцентом на совершенствование системы оценки качества и эффективности судебно-медицинских экспертиз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спертный 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1413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2 от 5 ноября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Экспертном совете в сфере здравоохранения Министерства здравоохранения и социального развития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37339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ный совет создается в целях реализации государственной политики в сфере здравоохранения, повышения роли научных, образовательных медицинских учреждений и общественных организаций в области охраны и укрепления здоровья населения, усиления их ответственности за состояние и развитие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определению кадров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28720" y="1428840"/>
            <a:ext cx="777564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кутин Виктор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лавский Григорий Иосиф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ле Александр Фед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ягин Виктор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шавец Никола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нцов Владимир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венсон Михаил Семе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ный график реализации работ по рассмотрению вопросов развития кадрового потенциа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773360"/>
          <a:ext cx="8229600" cy="4136760"/>
        </p:xfrm>
        <a:graphic>
          <a:graphicData uri="http://schemas.openxmlformats.org/drawingml/2006/table">
            <a:tbl>
              <a:tblPr/>
              <a:tblGrid>
                <a:gridCol w="460440"/>
                <a:gridCol w="5167080"/>
                <a:gridCol w="260208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редложения о внесении изменений в список номенклатуры врачебных должностей Бюро СМЭ (на основании проведенного анали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отребностей кадров судебно-медицинской службы субъектов РФ, разработка предложений по подготовке кадров и комплектованию ими Бюро СМ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Департамент предложений по порядку и условиям профессиональной деятельности, по развитию кадрового потенциала и оптимизации управления кадрами в сфере судебно-медицинской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- IV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сению изменений в Приказ Минздравсоцразвития России № 194 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4 апреля 2008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8720" y="1428840"/>
            <a:ext cx="77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роводится по предложению Заместителя министра  здравоохранения и социального развития Скворцовой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подготовки проекта приказа о внесении изменений – до 1 июля 2009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сению изменений в Приказ Минздравсоцразвития России № 194 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4 апреля 2008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8720" y="1428840"/>
            <a:ext cx="777564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ед Евгений Фелик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инов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к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нцов Серге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льгин Сергей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Александр Серг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рентюк Георги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льдюшев Евгений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мачев Игорь Анато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468360" y="765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1280" y="27082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Ваши предложения и замечания, направленные на улучшение деятельности судебно-медицинской службы, будут приняты с благодарностью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8360" y="14698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Экспертного совета включ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тавители Министерства, федеральных служб и федерального агентства, подведомственных Министерству, Российской академии наук, Российской академии медицинских на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едатель Совета ректоров медицинских и фармацевтических вузов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лавные внештатные специалисты Министе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едателем Экспертного совета является Министр здравоохранения и социального развития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экспертного со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21428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орядков оказания отдельных видов (по профилям) медицинской помощи и стандартов медицинск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редложений по совершенствованию системы оценки качества медицинск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спертная оценка новых методов профилактики, диагностики, лечения, реабилитации и медицин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выборе приоритетных направлений научных медицинских исследований, их организации и координ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редложений по оптимизации управления медицинскими кадрами, участие в реализации основных направлений кадровой поли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орядка и условий занятия профессиональной деятельност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суждение иных вопросов, относящихся к сфере здравоохранения (по предложению председателя Экспертного сове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фильная комиссия по судебно-медицинской эксперт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484280"/>
            <a:ext cx="8353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Экспертного совета создаются профильные комиссии, в т.ч. и по судебно-медицинской эксперти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профильной комиссии по судебно-медицинской экспертизе в установленном порядке включ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лавные внештатные специалисты по судебно-медицинской экспертизе органов управления здравоохранением всех субъектов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ректора профильных научных организаций, ведущие ученые и специалисты – судебные ме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едставители профессиональных медицинских сообществ и ассоци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едателем профильной комиссии является Главный внештатный специалист по судебно-медицинской экспертизе Минздравсоцразвития России, проф. П.О.Ромодановс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ординации и эффективности работы профильной комиссии в ее состав также вошел Главный судебно-медицинский эксперт Росздравнадзора, проф. Е.С.Тучик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9640" y="573408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едания профильной комиссии проводятся по мере необходимости, но не реже 1 раза в квартал и считаются правомочным, если на них присутствует не менее половины членов профильной коми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ципы работ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2340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ллеги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мпете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л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завис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блюдение норм профессиональной э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профильной комиссии по судебно-медицинской эксперт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916280"/>
            <a:ext cx="83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стратегии развития судебно-медицинской службы и тактических решений по ее реализации с целью обеспечения современного уровня производства судебно-медицинских эксперт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нормативно-правовых документов, регламентирующих деятельность службы, а также производство судебно-медицинских эксперт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ганизация внедрения современных технологий в судебно-медицинской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ирование номенклатуры специалистов Бюро судебно-медицинской экспертизы, а также специальностей научных работников по профильной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групп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00040" y="158976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ланом работы Экспертного совета в сфере здравоохранения из состава профильной комиссии формируются постоянно действующие рабочие группы (из 11 чело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абочих групп должна вестись в следующих направле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зработка проекта нормативных документов о порядке производства судебно-медицинско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готовка проектов стандартов и протоколов судебно-медицинско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зработка стратегии развития судебно-медицинско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пределение кадровой полит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несение изменений в Приказ Минздравсоцразвития России № 194 от 24 апреля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чие групп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1501920"/>
            <a:ext cx="82072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 рабочей группы входя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едседатель профильной коми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шесть главных внештатных специалистов по судебно-медицинской экспертизе органов управления здравоохранением субъектов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и представителя профильных научных организаций, ведущих ученых и специалистов – судебных мед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ь профессиональных медицинских обществ и ассоциаций по специа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я рабочих групп должны проводиться по мере необходимости, но не реже одного раза в квартал. Заседания считаются правомочными, если на них присутствуют все члены рабоче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28:53Z</dcterms:created>
  <dc:creator>USER0</dc:creator>
  <dc:description/>
  <dc:language>en-US</dc:language>
  <cp:lastModifiedBy>Evgeny Semenov</cp:lastModifiedBy>
  <dcterms:modified xsi:type="dcterms:W3CDTF">2009-05-25T18:40:59Z</dcterms:modified>
  <cp:revision>76</cp:revision>
  <dc:subject/>
  <dc:title>Об организации профильной комиссии по судебно-медицинской экспертизе Министерства здравоохранения и социального развития Российской Федерации</dc:title>
</cp:coreProperties>
</file>