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1E1F-F86E-49DF-9D2A-9F2F7483B1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C1CA-72FA-4187-9775-AFC4D2DEF0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7AE8-78D6-45F6-8FDF-3D4B3BC218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2212-B657-4153-AA4D-167EDCAF12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E263-87A2-4BFB-A81B-3335AF5E8A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9B48-3A80-41CA-905E-43FBB27AE3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B928-DA60-48A7-9103-06719E29E5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CE6A-DEDB-45AC-9DF0-96B2873864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2354-5A86-4431-B46A-E2A2008A88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2330-8E53-426F-AFC9-FB7A1BF8F0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0DC1-A569-4F39-A1A2-E1E503FD88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4ADE-DD21-44A0-8569-00A9AA7690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F744-48FA-4AA7-A93F-C2E8110F84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A241-5135-4420-BDA4-657BEFB161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689C-5FCE-49B8-9D9C-6AA0F743A7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C060-BB7A-4615-B555-35DB174341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18BF-7F27-4C20-B234-0B4A54CA42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1B4B-B0BC-4900-9BD8-6441EF59AC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6758-2FBF-45D4-A8C3-5A52188C18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F5B4-123B-4E0D-A31E-E6647D93D8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C553-C6DF-4377-9F24-713EBD9A0E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BFB5-4449-4166-9485-080A367BE9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FA70-B903-455C-9364-BF68D4B009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F6B1-40AC-4B73-9442-714797B374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A517-2D2A-467D-A556-703909B693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2B1-FDBF-4033-A957-36BAB398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3C5E-2B17-47A1-BF50-3E6AAA30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85C-6F25-4149-BF38-36EFAE5D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05A-ECE6-43BE-8A03-8864E04C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4D1B-9896-43BA-AFBE-3F8D68B7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CCEB-397A-4E3F-818B-817292A8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CBEF-A238-422D-A177-D5FA6922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9824-CF66-44A7-B091-813543FF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A871-20F3-4915-BD42-5D92D913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3C95-1EA1-4E3D-900B-288466DA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6140-64BE-4F06-BB7B-7DD9DB17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B35-19A9-418E-AC77-1798F27B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D74A-304A-474F-B848-A8F01AFB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D91D-BB08-43FC-8E83-01267DD5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4103-5872-4AB6-B16D-64578445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4D55-65DF-4E69-9D51-44702E09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A330-0484-4D52-B3FA-8BBB6544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4D3B-1F16-47CA-995D-566BF5BC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DE3C-C15F-4D19-AC4A-E85F7B5F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6F9-DCE1-4661-92ED-7737E0FF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F0B-5007-4243-BDD4-49503A49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A6B2-FC3D-443E-B508-6185A27F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B71-635E-4221-8C50-045C6444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382-5D4C-4532-A57F-DD6D8CB7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86F9-52BC-4C2C-8139-1519CD7D0A5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3500-C766-48E4-8D1C-608D714143C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958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ЧИ И ПЛАН РАБОТЫ ПРОФИЛЬНОЙ КОМИССИИ ПО СУДЕБНО-МЕДИЦИНСКОЙ ЭКСПЕРТИЗЕ ЭКСПЕРТНОГО СОВЕТА МИНЗДРАВСОЦРАЗВИТИЯ РОССИИ В СФЕРЕ ЗДРАВООХРА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над проектами нормативных документов о порядке производства судебно-медицинской эксперти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28760" y="1682640"/>
            <a:ext cx="8429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Минздравсоцразвит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10н от 11 августа 200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б организации в Министерстве здравоохранения и социального развития Российской Федерации работы по разработке порядков оказания отдельных видов (по профилям) медицинской помощи и стандартов медицинской помощ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95280" y="428004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ждено Положение об организации работы по разработке порядков оказания отдельных видов (по профилям) медицинск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 рабочей группы по разработке проекта нормативных документов о порядке производства судебно-медицинской эксперти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828720" y="1500120"/>
            <a:ext cx="7775640" cy="48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модановский Павел Олег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шинян Гурген Амаяк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рофеев Сергей Владими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олин Николай Ива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делев Николай Серафим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селов Владимир Павл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аров Владимир Васи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ер Владислав Ива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ксин Владислав Олег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роастров Олег Маркови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омную помощь в работе оказа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чик Евгений Саве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ов  Александр Серге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венсон Михаил Семе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ринов Евгений Христофо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над проектами нормативных документов о порядке производства судебно-медицинской эксперти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28760" y="1285920"/>
            <a:ext cx="84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прошедший период (с ноября 2008 г. по апрель 2009 г.) состоялось три расширенных заседания рабочей группы: в Екатеринбурге (организационное), в Москве и Сузда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них были рассмотрены наиболее актуальные вопросы, относящиеся к работе профильной комиссии, а также проекты документов о порядке производства судебно-медицинской экспертиз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кция о производстве судебно-медицинск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ение о Бюро судебно-медицинск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ение о структурном подразделении Бюро судебно-медицинск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ение о враче – судебно-медицинском экспер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ый табель оснащения Бюро судебно-медицинской экспертизы, его структурных подраздел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уемые штатные нормативы Бюро судебно-медицинской экспертизы, его структурных подразде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совещания в Кирове данные документы должны быть переданы в Минздравсоцразвития России для окончательного утвер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подготовке проектов стандартов и протоколов судебно-медицинской экспертизы трупа, живого лица, вещественных доказательств и по материалам д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8760" y="1714680"/>
            <a:ext cx="8429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Минздравсоцразвит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10н от 11 августа 200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б организации в Министерстве здравоохранения и социального развития Российской Федерации работы по разработке порядков оказания отдельных видов (по профилям) медицинской помощи и стандартов медицинской помощ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95280" y="428004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ждено Положение об организации работы по разработке стандартов оказания отдельных видов (по профилям) медицинск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ая группа по подготовке проектов стандартов и протоколов судебно-медицинской экспертиз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28720" y="1711440"/>
            <a:ext cx="77756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модановский Павел Олег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ер Владислав Ива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дашкин Анатолий Пантеле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хорев Виктор Ива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ун Валерий Никола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вед Евгений Феликс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шутин Владимир Льв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ридонов Валерий Александ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роастров Олег Марк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ов Евгений Никола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тлаков Андрей Вадим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бочая группа надеется на помощь РЦСМЭ и питерских колл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по подготовке проектов стандартов и протоколов судебно-медицинской экспертиз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28760" y="1285920"/>
            <a:ext cx="8429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лены предложения (представленные в Минздравсоцразвития России 25 ноября 2008 г.) по разработке стандартов и протоколов судебно-медицинской экспертизы, включа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ание объекта (трупа, живого лица, вещественных доказательств, по материалам дел) и вида (первичная, дополнительная, повторная) судебно-медицинской эксперти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чень первичных (непосредственных) экспертных исследований с указанием количества и частоты их провед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чень дополнительных и лабораторных экспертных исследований с указанием количества и частоты их провед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чень материалов, иллюстрирующих экспертное исследование, с указанием колич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чень дорогостоящих экспертиз, использующих современные высокотехнологические методы исслед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чень специалистов (медицинского и немедицинского профиля), привлекаемых в качестве экспертов к комиссионным (комплексным) экспертизам, и консультаций с указанием их количества и част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ендарный график реализации работ по разработки стандартов и протоколов судебно-медицинской экспертиз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2214720"/>
          <a:ext cx="8105760" cy="3714480"/>
        </p:xfrm>
        <a:graphic>
          <a:graphicData uri="http://schemas.openxmlformats.org/drawingml/2006/table">
            <a:tbl>
              <a:tblPr/>
              <a:tblGrid>
                <a:gridCol w="452520"/>
                <a:gridCol w="5370480"/>
                <a:gridCol w="228276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, оптимизация реестра медицинских услуг и номенклатуры работ и услуг в здравоохран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июня 2009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в Минздравсоцразвития России  проекта стандартов и протоколов судебно-медицинской эксперти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ентября 2009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сование и утверждение Минздравсоцразвития России стандартов протоколов судебно-медицинской эксперти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 2009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разработке стратегии развития служб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828720" y="1428840"/>
            <a:ext cx="7775640" cy="48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лагаемый список сост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модановский Павел Олег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кутин Виктор Викто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шинян Гурген Амаяк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ер Владислав Ива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рофеев Сергей Владими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делев Николай Серафим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яров Аркадий Петрови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славский Григорий Иосиф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аров Владимир Васи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гматуллин Наиль Шами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селов Владимир Павл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бочая группа надеется на помощь всех членов профильной комиссии по судебно-медицинской эксперти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разработке стратегии развития служб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828720" y="1571760"/>
            <a:ext cx="777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успешной работы по данному направлению рабочая группа просит начальников Бюро судебно-медицинской экспертизы субъектов России подготовить (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 1 июля 2009 г.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дения о состоянии бюро и объеме их экспертной деятельности, включающ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кую характеристику Бюро СМЭ и его фил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дения о кадровом составе и профессиональной подготовке специал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дения  об экспертизах живых л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дения о видах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дения о комиссионных и комплексных экспертиз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лендарный график реализации работ по разработке стратегии развития служб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58640"/>
                <a:gridCol w="5585040"/>
                <a:gridCol w="21859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наличия и состояния медицинской техники, аппаратуры и медицинских изделий Бюро СМЭ субъектов РФ и их соответствия для производства судебно-медицинских эксперт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ал 2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внедренных современных медицинских технологий производства судебно-медицинских экспертиз и представление в Департамент предложений по реализации совершенствования механизмов их внедр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ал 2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в Минздравсоцразвития России предложений по стратегии развития службы с акцентом на совершенствование системы оценки качества и эффективности судебно-медицинских экспертиз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ал 2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кспертный со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68360" y="141300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аз Минздравсоцразвития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22 от 5 ноября 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 Экспертном совете в сфере здравоохранения Министерства здравоохранения и социального развития Российской Федера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95280" y="373392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ертный совет создается в целях реализации государственной политики в сфере здравоохранения, повышения роли научных, образовательных медицинских учреждений и общественных организаций в области охраны и укрепления здоровья населения, усиления их ответственности за состояние и развитие системы здравоо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группа по определению кадровой поли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828720" y="1428840"/>
            <a:ext cx="7775640" cy="51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лагаемый список сост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модановский Павел Олег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кутин Виктор Викто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роастров Олег Марк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славский Григорий Иосиф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селов Владимир Павл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ер Владислав Ива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нле Александр Федо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вягин Виктор Никола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шавец Николай Пет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нцов Владимир Григо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венсон Михаил Семе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бочая группа надеется на помощь всех членов профильной комиссии по судебно-медицинской эксперти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лендарный график реализации работ по рассмотрению вопросов развития кадрового потенциал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773360"/>
          <a:ext cx="8229600" cy="4136760"/>
        </p:xfrm>
        <a:graphic>
          <a:graphicData uri="http://schemas.openxmlformats.org/drawingml/2006/table">
            <a:tbl>
              <a:tblPr/>
              <a:tblGrid>
                <a:gridCol w="460440"/>
                <a:gridCol w="5167080"/>
                <a:gridCol w="2602080"/>
              </a:tblGrid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предложения о внесении изменений в список номенклатуры врачебных должностей Бюро СМЭ (на основании проведенного анализ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ал 2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потребностей кадров судебно-медицинской службы субъектов РФ, разработка предложений по подготовке кадров и комплектованию ими Бюро СМЭ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ал 2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в Департамент предложений по порядку и условиям профессиональной деятельности, по развитию кадрового потенциала и оптимизации управления кадрами в сфере судебно-медицинской служ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- IV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ал 2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несению изменений в Приказ Минздравсоцразвития России № 194 о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4 апреля 2008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28720" y="1428840"/>
            <a:ext cx="7775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проводится по предложению Заместителя министра  здравоохранения и социального развития Скворцовой В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и подготовки проекта приказа о внесении изменений – до 1 июля 2009 г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группа п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несению изменений в Приказ Минздравсоцразвития России № 194 о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4 апреля 2008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28720" y="1428840"/>
            <a:ext cx="7775640" cy="51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лагаемый список сост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модановский Павел Олег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вед Евгений Феликс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роастров Олег Марк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ринов Евгений Никола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чик Евгений Никола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нцов Сергей Ива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льгин Сергей Григо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ов Александр Серге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врентюк Георгий Пет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льдюшев Евгений Михайл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мачев Игорь Анато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бочая группа надеется на помощь всех членов профильной комиссии по судебно-медицинской эксперти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468360" y="76500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1280" y="270828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Ваши предложения и замечания, направленные на улучшение деятельности судебно-медицинской службы, будут приняты с благодарностью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68360" y="146988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став Экспертного совета включа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едставители Министерства, федеральных служб и федерального агентства, подведомственных Министерству, Российской академии наук, Российской академии медицинских нау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едседатель Совета ректоров медицинских и фармацевтических вузов Рос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главные внештатные специалисты Министер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едателем Экспертного совета является Министр здравоохранения и социального развития Российской Федер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экспертного сов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95280" y="1214280"/>
            <a:ext cx="8353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астие в разработке порядков оказания отдельных видов (по профилям) медицинской помощи и стандартов медицинской помощ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астие в разработке предложений по совершенствованию системы оценки качества медицинской помощ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кспертная оценка новых методов профилактики, диагностики, лечения, реабилитации и медицинских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астие в выборе приоритетных направлений научных медицинских исследований, их организации и координ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астие в разработке предложений по оптимизации управления медицинскими кадрами, участие в реализации основных направлений кадровой поли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астие в разработке порядка и условий занятия профессиональной деятельность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суждение иных вопросов, относящихся к сфере здравоохранения (по предложению председателя Экспертного совет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фильная комиссия по судебно-медицинской эксперти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95280" y="1484280"/>
            <a:ext cx="83534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е Экспертного совета создаются профильные комиссии, в т.ч. и по судебно-медицинской экспертиз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 профильной комиссии по судебно-медицинской экспертизе в установленном порядке включа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главные внештатные специалисты по судебно-медицинской экспертизе органов управления здравоохранением всех субъектов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иректора профильных научных организаций, ведущие ученые и специалисты – судебные мед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редставители профессиональных медицинских сообществ и ассоци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едателем профильной комиссии является Главный внештатный специалист по судебно-медицинской экспертизе Минздравсоцразвития России, проф. П.О.Ромодановск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координации и эффективности работы профильной комиссии в ее состав также вошел Главный судебно-медицинский эксперт Росздравнадзора, проф. Е.С.Тучик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39640" y="5734080"/>
            <a:ext cx="813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седания профильной комиссии проводятся по мере необходимости, но не реже 1 раза в квартал и считаются правомочным, если на них присутствует не менее половины членов профильной коми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нципы работы профильной коми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95280" y="2340000"/>
            <a:ext cx="835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оллеги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омпете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гл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завис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блюдение норм профессиональной э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 профильной комиссии по судебно-медицинской эксперти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95280" y="1916280"/>
            <a:ext cx="8353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аботка стратегии развития судебно-медицинской службы и тактических решений по ее реализации с целью обеспечения современного уровня производства судебно-медицинских эксперти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аботка нормативно-правовых документов, регламентирующих деятельность службы, а также производство судебно-медицинских эксперти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рганизация внедрения современных технологий в судебно-медицинской практи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формирование номенклатуры специалистов Бюро судебно-медицинской экспертизы, а также специальностей научных работников по профильной пробл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ие группы профильной коми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500040" y="1589760"/>
            <a:ext cx="8143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ланом работы Экспертного совета в сфере здравоохранения из состава профильной комиссии формируются постоянно действующие рабочие группы (из 11 человек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рабочих групп должна вестись в следующих направлени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зработка проекта нормативных документов о порядке производства судебно-медицинской эксперти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одготовка проектов стандартов и протоколов судебно-медицинской эксперти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азработка стратегии развития судебно-медицинской служб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определение кадровой полити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внесение изменений в Приказ Минздравсоцразвития России № 194 от 24 апреля 200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бочие группы профильной коми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68360" y="1501920"/>
            <a:ext cx="820728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став рабочей группы входя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едседатель профильной коми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шесть главных внештатных специалистов по судебно-медицинской экспертизе органов управления здравоохранением субъектов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три представителя профильных научных организаций, ведущих ученых и специалистов – судебных мед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итель профессиональных медицинских обществ и ассоциаций по специа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я рабочих групп должны проводиться по мере необходимости, но не реже одного раза в квартал. Заседания считаются правомочными, если на них присутствуют все члены рабочей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1:28:53Z</dcterms:created>
  <dc:creator>USER0</dc:creator>
  <dc:description/>
  <dc:language>en-US</dc:language>
  <cp:lastModifiedBy>Evgeny Semenov</cp:lastModifiedBy>
  <dcterms:modified xsi:type="dcterms:W3CDTF">2009-05-25T18:40:59Z</dcterms:modified>
  <cp:revision>76</cp:revision>
  <dc:subject/>
  <dc:title>Об организации профильной комиссии по судебно-медицинской экспертизе Министерства здравоохранения и социального развития Российской Федерации</dc:title>
</cp:coreProperties>
</file>