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830-6565-4BCE-8A84-901677C7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D02-B453-4D91-BC3D-B9C36A6C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F56-1C26-437E-87A4-03699697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695-F6EA-4814-9DA8-0B46ECAB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8EF-3E71-4E03-8B64-E5CF06A6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07A-67B6-41C3-89AC-377A794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C66-143F-42AD-9D19-7AC9F54F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878-F80D-4675-B13C-9BC08A87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38A-D594-4B41-A753-B1EF8809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5B8-6FDD-42FE-BA9B-631BC37A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90F-34BE-4348-99A4-A657B13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AC5-6F31-4088-AEAD-80EB60E6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8C2-8836-4152-8DE9-6E1BD8190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820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23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ПЕРСПЕКТИВЫ РАЗВИ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РОССИЙСКОГО ЦЕНТРА СУДЕБНО-МЕДИЦИНСКОЙ ЭКСПЕРТИ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1640" y="4365720"/>
            <a:ext cx="828072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.о. директора Российского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судебно-медицинской экспертиз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доктор медицинских наук, профессор В.В. Колкут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Москва -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87480"/>
            <a:ext cx="9144000" cy="1217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Главная задача головного учреждени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920" y="1341360"/>
            <a:ext cx="8842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организация комплекса мероприятий по осуществлению всесторонней деятельности службы, обеспечивающей правоохранительные органы решением экспертных вопросов в условиях стационарного и экстремального функционирования (при стихийных бедствиях, техногенных катастрофах и локальных вооруженных конфликтах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87480"/>
            <a:ext cx="8510400" cy="89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1092240"/>
            <a:ext cx="831708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0280" indent="-4402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Создание современной нормативно-правовой базы для работы эксперт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0280" indent="-4402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Разработка современных алгоритмов и методик экспертных исследов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0280" indent="-4402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Формирование принципиально новых подходов к отбору, подготовке и расстановке кад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274680"/>
          <a:ext cx="9143640" cy="623880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Arial Black"/>
                        </a:rPr>
                        <a:t>Уровни решения задач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Arial Black"/>
                        </a:rPr>
                        <a:t>Виды задач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ежгосударственный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осударственный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убъект федераци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ородской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онкретный следственный орган (суд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онкретный следователь (судья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адвокаты, организации, граждан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6400" indent="-44892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учные и методически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4892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адров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4892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нспекционная деятельнос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4892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онтроль аппаратно-технического оснащ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4892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Участие в поиске и распределении источников финансиров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8760"/>
            <a:ext cx="9144000" cy="60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Формы науч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3556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планирование, организация и координация исследов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3556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участие в выполнении фундаментальных, поисковых и прикладных НИР в рамках Госзака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3556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формирование научных связей с исследовательскими учреждениями иных ведом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3556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испытание новых образцов техники и 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3556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обобщение и распространение полученных результатов с последующим внедрением их в практ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2400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4520" y="1160640"/>
            <a:ext cx="7885080" cy="35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годарю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 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7:32:49Z</dcterms:created>
  <dc:creator>pir1</dc:creator>
  <dc:description/>
  <dc:language>en-US</dc:language>
  <cp:lastModifiedBy>Колкутин</cp:lastModifiedBy>
  <dcterms:modified xsi:type="dcterms:W3CDTF">2009-05-19T06:02:38Z</dcterms:modified>
  <cp:revision>7</cp:revision>
  <dc:subject/>
  <dc:title>Слайд 1</dc:title>
</cp:coreProperties>
</file>