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B3B-1234-420E-9D04-4A390A04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6AA-69B7-4DC7-913A-69C9724A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50D-D723-479D-9DF4-ADAA5484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06A-7C1F-44ED-995A-3D573340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721-3C8C-4FF5-8162-EF93F8A8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3E3-F579-44C3-BB67-DB6EB7E4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C10-30CB-45F2-B0C4-67E10971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2AB-4895-4557-A59D-DA9CC159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422-81AB-4D09-BBB5-56128945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A56-021D-4531-B268-86A39BB9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858-9084-4D3B-B415-62F6B603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68F-0672-4284-B985-F49F63DC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614-2A6B-4AA3-8F24-9356DAB6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820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23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ПЕРСПЕКТИВЫ РАЗВИ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РОССИЙСКОГО ЦЕНТРА СУДЕБНО-МЕДИЦИНСКОЙ ЭКСПЕРТИЗ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1640" y="4365720"/>
            <a:ext cx="828072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.о. директора Российского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судебно-медицинской экспертиз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октор медицинских наук, профессор В.В. Колкут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осква -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87480"/>
            <a:ext cx="9144000" cy="1217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Главная задача головного учрежд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920" y="1341360"/>
            <a:ext cx="8842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организация комплекса мероприятий по осуществлению всесторонней деятельности службы, обеспечивающей правоохранительные органы решением экспертных вопросов в условиях стационарного и экстремального функционирования (при стихийных бедствиях, техногенных катастрофах и локальных вооруженных конфликта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87480"/>
            <a:ext cx="8510400" cy="89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092240"/>
            <a:ext cx="831708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0280" indent="-4402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Создание современной нормативно-правовой базы для работы эксперт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0280" indent="-4402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Разработка современных алгоритмов и методик экспертных исследов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0280" indent="-4402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Формирование принципиально новых подходов к отбору, подготовке и расстановке кад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274680"/>
          <a:ext cx="9143640" cy="623880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Arial Black"/>
                        </a:rPr>
                        <a:t>Уровни решения задач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Arial Black"/>
                        </a:rPr>
                        <a:t>Виды задач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межгосударственны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осударственны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субъект федераци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городской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онкретный следственный орган (суд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онкретный следователь (судья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7000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адвокаты, организации, граждан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Научные и методическ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адров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Инспекционная деятельно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онтроль аппаратно-технического оснащ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48920">
                        <a:lnSpc>
                          <a:spcPct val="90000"/>
                        </a:lnSpc>
                        <a:spcBef>
                          <a:spcPts val="1049"/>
                        </a:spcBef>
                        <a:buClr>
                          <a:srgbClr val="cc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Участие в поиске и распределении источников финансиров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8760"/>
            <a:ext cx="9144000" cy="60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Формы науч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планирование, организация и координация исследов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участие в выполнении фундаментальных, поисковых и прикладных НИР в рамках Госзака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формирование научных связей с исследовательскими учреждениями иных ведом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испытание новых образцов техники и 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355680">
              <a:lnSpc>
                <a:spcPct val="85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обобщение и распространение полученных результатов с последующим внедрением их в прак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2400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4520" y="1160640"/>
            <a:ext cx="7885080" cy="35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ю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50000">
                      <a:srgbClr val="5e0000"/>
                    </a:gs>
                    <a:gs pos="100000">
                      <a:srgbClr val="cc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50000">
                    <a:srgbClr val="5e0000"/>
                  </a:gs>
                  <a:gs pos="100000">
                    <a:srgbClr val="cc00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7:32:49Z</dcterms:created>
  <dc:creator>pir1</dc:creator>
  <dc:description/>
  <dc:language>en-US</dc:language>
  <cp:lastModifiedBy>Колкутин</cp:lastModifiedBy>
  <dcterms:modified xsi:type="dcterms:W3CDTF">2009-05-19T06:02:38Z</dcterms:modified>
  <cp:revision>7</cp:revision>
  <dc:subject/>
  <dc:title>Слайд 1</dc:title>
</cp:coreProperties>
</file>