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152-8BCF-40B2-A16F-11A16C6C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3C3-9B03-4354-B910-96F9112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D04-8F8E-400B-BB3D-94285EFD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FF5-C2A7-4811-944A-BE7119F1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F43-3F74-473D-B918-70688D91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0535-C1B0-43D7-A534-DEEBE90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303C-E877-4EA3-8CBA-FB52318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625-D18D-4CED-904B-C04F4A3C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8A66-04DC-4B1C-84A4-EFCDE821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4BF-C282-46BF-A41A-5ED042B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5517-95A6-458E-99EF-0C1B860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858-F8E4-4DE8-9A14-DC1EC33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EBA-BA93-4A6A-8D24-3CCC47F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B682-C405-4BA3-9ED5-618B155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3D2-81C5-48F3-84DB-436B33C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E6ED-6325-4285-8F1F-71AA56F2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48C7-3955-4189-BAA4-8C045255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97C-598E-4FB2-B9F1-DE080AE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64F-513E-4B62-9C94-D24FDD5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5D1-4DC0-4922-9B75-86567B5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978-67C4-4E32-97DE-3AC82F6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D45-C7CE-4DEE-ABD2-5C7CAC4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E9C-4162-4F47-88CF-7F8A7E1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B94-31A1-4516-BEDE-D7DBBF0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067-E8F8-4B2F-81CC-A4AEDEE08B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0FF0-E9E5-4B4D-B75A-0FCAA2EACF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Делакруа Эжен- Лодка Данте"/>
          <p:cNvPicPr/>
          <p:nvPr/>
        </p:nvPicPr>
        <p:blipFill>
          <a:blip r:embed="rId1"/>
          <a:stretch/>
        </p:blipFill>
        <p:spPr>
          <a:xfrm>
            <a:off x="428760" y="3002040"/>
            <a:ext cx="4595760" cy="342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900-EA32-4AF9-B36A-6590BB1A76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263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 месте судебно-медицинской экспертизы в современной системе здравоохранения РФ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00760" y="4143240"/>
            <a:ext cx="40003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департамента здравоохранения Кировской области А.Е. Мальц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тор мед. на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E08-D92F-4B40-8463-06F8C7FDBC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инансовые показатели должны быть увязаны с качественны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удовлетворенность населения медицинской помощью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субъекта Российской Федерации, в том числе младенческая и материнская смертность, смертность населения  в трудоспособном возрасте, смертность населения от сердечно-сосудистых заболеваний, онкологических заболеваний, внешних причин, в результате дорожно-транспортных происшеств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ичная заболеваемость основными социально-значимыми болезня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ичная инвалид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балансированность территориальной программы государственных гарантий по видам и объемам медицинской помощи в соответствии с установленными Программой норматив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роки ожидания гражданами медицинской и реабилитационной помощи по видам и условиям оказан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BC6-B6B0-435F-922B-CE490B9402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им из основных факторов создания системы качественной и доступной медицинской помощи является наличие единых для всей территории Российской Федерац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ядко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андарт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казания медицинской помощи при наиболее распространенных и социально-значимых заболеваниях и патологических состоя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дарты медицинской помощи разрабатываются в соответствии с показателями Программы государственных гарантий, и их выполнение гарантируется гражданам на всей территории Российской Феде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995-AA8B-4A1A-A561-5578AA17B7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поненты  развития системы врачебного самоуправления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 системы корпоративной ответственности за качество оказываемой медицинской помощ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йтинговая оценка результатов работы каждого члена медицинского коллектива в зависимости от  эффективности и результативности его рабо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поративное распределение финансовых средств за оказанные медицинские услуги (переход на новые формы оплаты тру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системы персональных допусков к видам медицинской деятельности в зависимости от уровня их слож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мотивации медицинских работников к непрерывному профессиональному образованию и приобретению допусков к новым видам медицинской деятельности в рамках основной  специальности или смежных областей медици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652-E20E-43DF-9FE9-BE3032BE8A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поненты  развития системы врачебного самоуправления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7BA-3042-4FE2-B5E9-AA09F6FAE2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едение численности и структуры медицинских кадров в соответствие с объемами деятельности персонала и перспективными задачами. Устранение дублирования функций, перераспределение функций между различными профессиональными группами (врачи и сестринский персонал, медицинские сестры и младшие медицинские сестры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профессионального уровня работников здравоохранения на основе дальнейшего развития системы непрерывного образования медицинских и фармацевтических работн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ствование условий труда и его оплаты. Приведение системы оплаты труда в соответствие со сложностью, количеством и качеством оказания медицинской помощи. Модернизация рабочих мест, повышение технической оснащенности труда медицинских работн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B7A-34A9-4E24-B7BF-B6830A6D1E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2B5-4D41-4CFD-93EE-B82CEE2618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ствование нормативной правовой базы, определяющей профессиональную деятельность медицинского и фармацевтического персон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а комплекса мероприятий, направленных на повышение статуса врача и среднего медицинского персонала, на осознание медицинским работником потенциала  профессии и ее перспектив, значимости для 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специалистов в сфере управления здравоохране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004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вершенствование подготовки управленческих кадров в здравоохранении и специалистов кадровых служб медицинских организаций, основанных на современных принципах управления качеством и стандартизации, многопрофильных профессиональных знаниях (юридических, экономических, психологических, социологических и др.) и навыках управления кадр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зработка системы страхования ответственности медицинских работников на случай ошибки и при наличии степени риска медицинского вмешательства, а также личного страхования в случае, когда исполнение служебных обязанностей сопряжено с угрозой для жизни и здоровь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F21-4DE4-4E24-8E1C-6001C275FE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7DF-8AE1-4B35-BFCF-9AF22419EF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единых критериев формирования профессионального сообщества по медицинским специальностям (группам специальностей),  развитие механизмов их участия в разработке стандартов оказания медицинской помощи, клинических протоколов, в лицензировании медицинской деятельности и сертификации специалистов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ршенствование работы аппарата главных внештатных специалистов с участием специалистов субъектов Российской Федерации, руководителей профильных научных  организаций, ведущих ученых, представителей профессиональных обществ и ассоциаций и др.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роли научных, экспертных и консультативных органов; развитие медицинских профессиональных обществ и ассоци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89FF-5BC3-487E-95A8-1798673D73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D7EF-946C-4DB4-B9C8-14029FCA47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ановление Правительства РФ № 913 от 5 декабря 2008 г. 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ях обеспечения конституционных прав граждан Российской Федерации на получение бесплатной медицинской помощи Правительство Российской Федерации постановляе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твердить прилагаемую Программу государственных гарантий оказания гражданам Российской Федерации бесплатной медицинской помощи на 2009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E95-886C-48B6-85C2-9EA4AD9EBB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rembrandt-anatomy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5730-3E8F-4C57-A76A-4A1539D6D5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5B6-BF27-4B27-98DE-79AD398635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II. Источники финансового обеспечения медицинской помощ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ме того, за счет бюджетных ассигнований федерального бюджета, бюджетов субъектов Российской Федерации и местных бюджетов в установленном порядке осуществляется медицинская помощь, а также предоставляются медицинские и иные услуги в лепрозориях, центрах по профилактике и борьбе с синдромом приобретенного иммунодефицита и инфекционными заболеваниями, центрах медицинской профилактики, врачебно-физкультурных диспансерах, центрах профессиональной патологии, санаториях, в том числе детских и для детей с родителями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юро судебно-медицинской экспертиз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атолого-анатомических бюро, медицинских информационно-аналитических центрах, бюро медицинской статистики, станциях переливания крови, центрах крови, центрах планирования семьи и репродукции,…, входящих в номенклатуру учреждений здравоохранения, утверждаемую Министерством здравоохранения и социального развития Российской Федерации, которые не участвуют в реализации территориальной программы обязательного медицинского страх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EF1-B2A1-4256-8D0A-C0F278F43E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VI. Критерии доступности и качества медицинской помощ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рриториальной программой устанавливаются целевые значения критериев доступности и качества медицинской помощи, на основе которых проводится комплексная оценка уровня и динамики следующих показателе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довлетворенность населения медицинской помощью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исло лиц, страдающих социально значимыми болезнями, с установленным впервые в жизни диагнозом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исло лиц, в возрасте 18 лет и старше, впервые признанных инвалидам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в трудоспособном возраст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сердечно-сосудистых заболеван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онкологических заболеван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921E-D929-40E2-8436-F50379BABC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VI. Критерии доступности и качества медицинской помощ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внешних причин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в результате дорожно-транспортных происшеств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атеринская смерт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ладенческая смерт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ступность медицинской помощи на основе оценки реализации нормативов объема медицинской помощи по видам в соответствии с Программой, а также установленных территориальной программой сроков ожидания гражданами медицинской помощи, предоставляемой в плановом порядк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ффективность использования ресурсов здравоохранения (кадровых, материально-технических, финансовых и других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казатели смертности включены в государственные докумен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лад «О состоянии здоровья населения Кировской области в 2008 год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доклад президента «О состоянии здоровья населения РФ в 2008 год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065-2E86-4FF4-89AD-7333841F83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3E3-78CC-4C45-8C6B-BA803CF455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онцепция развития системы здравоохранения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 Российской Федерации до 2020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.А. Голикова: «Мы представляем сегодня тот вариант документа, который был направлен на согласование в Министерство финансов, Министерство экономического развития и представлен в Правительство России. Основные цели и направления развития, которые позволят нам обеспечить доступность и качество медицинской помощи на основе единых требований и подходов и существенно улучшить ресурс здоровья наших граждан, заданы. Мы выходим на следующий раунд публичного обсуждения, чтобы превратить проект Концепцию уже в окончательный долгосрочный стратегический документ с детальными организационными и реализационными механизмами. После получения уточненных расчетов от министерств экономического блока Минздравсоцразвития проведет ряд широких публичных обсуждений. Приглашаем к дискуссии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0A6F-6CDF-4BB3-9F43-E972BF101D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Целями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вития здравоохранения являют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кращение к 2011 году убыли населения Российской Федерации и доведение численности до 145 млн. человек к 2020 год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ожидаемой продолжительности жизни населения до 75 л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общего коэффициента смертности до 10 (то есть в 1,5 раза по отношению к 2007 году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показателя младенческой смертности до   7,5 на 1000 родившихся живыми (на 20% по отношению к 2007 г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показателя материнской смертности на 100 000 родившихся живыми до 18,6 (на 15,7% по отношению к 2007 г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здорового образа жизни населения, в том числе снижение распространенности употребления табака до 25% и снижение потребление алкоголя до 9 л в г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качества и доступности медицинской помощи, гарантированной населению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2BB-590E-43F1-8A37-7BB1C3EDCE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осударственные гарантии оказания гражданам РФ бесплатной медицинской помощи должны быть законодательно определены, включая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точники финансового обеспечения государственных гарантий оказания гражданам Российской Федерации бесплатной медицинской помощ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ъем государственных гарантий оказания гражданам Российской Федерации бесплатной медицинской помощи в части видов, порядка и условий оказания медицинской помощ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порядок оценки эффективности исполнения государственных гарантий бесплатной медицинской помощ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 за неисполнение показателей государственных гарантий бесплатной медицинской помощ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рядок разработки нормативных актов, конкретизирующих установленный законодательством Российской Федерации объем государственных гарантий бесплатной медицинской помощ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21:22Z</dcterms:created>
  <dc:creator>Дубровина</dc:creator>
  <dc:description/>
  <dc:language>en-US</dc:language>
  <cp:lastModifiedBy>Олег Шемякин</cp:lastModifiedBy>
  <dcterms:modified xsi:type="dcterms:W3CDTF">2009-05-22T04:35:50Z</dcterms:modified>
  <cp:revision>296</cp:revision>
  <dc:subject/>
  <dc:title>Слайд 1</dc:title>
</cp:coreProperties>
</file>