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DC1F-4213-4798-89A0-B1083B06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FB3F-3280-44A8-A7B0-06765869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6E1-935B-49F0-B2D3-D936EF2C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D95-9204-4FFA-B3EF-44C6F751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DF9C-7B49-4AE4-9912-EC14ACFE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3D14-3BD6-49DD-91B9-037D29D5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F28B-0D7A-49A2-B150-48999DF5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0C41-EE0F-43DD-AB0A-E83C7EAF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8D01-8CB2-4777-BB1D-3895AAA2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817F-9AA1-407E-A7F2-DE50888C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2727-E8FB-4516-8E62-81AE3F36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A395-32A4-401A-A845-F36ECAFA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12E2-CE21-490D-A87E-EA0C3A1D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EA60-E2A1-44AD-BFC5-73D92F2D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4770-CAAC-4F3E-8524-1C9C4874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BCB4-7479-4617-B11C-886E8A20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C824-E977-4587-ADC9-1EB81C55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D38-F0E8-43A6-8A63-5CDA1A51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3C24-35B8-4E6C-BBA4-954FB32C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A58-409C-4589-AA39-78680E05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4459-CF6B-4CFE-8068-D54EB9EF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879-60C8-4949-82DF-2DA2D94A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B960-5606-4B3A-A38C-D0658405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B62-3E05-42CE-993B-082B6CB7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E44D-5187-4252-951F-CAB1DFA490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477E-9D39-4147-8DA2-70C2AA9EE49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Делакруа Эжен- Лодка Данте"/>
          <p:cNvPicPr/>
          <p:nvPr/>
        </p:nvPicPr>
        <p:blipFill>
          <a:blip r:embed="rId1"/>
          <a:stretch/>
        </p:blipFill>
        <p:spPr>
          <a:xfrm>
            <a:off x="428760" y="3002040"/>
            <a:ext cx="4595760" cy="3427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7718-00C1-4EB9-94ED-E9BE44716B0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4240" y="1263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 месте судебно-медицинской экспертизы в современной системе здравоохранения РФ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00760" y="4143240"/>
            <a:ext cx="400032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ва департамента здравоохранения Кировской области А.Е. Мальце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ктор мед. нау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43EA-1796-4B3F-A8F6-8B01B59234C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Финансовые показатели должны быть увязаны с качественным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удовлетворенность населения медицинской помощью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смертность населения субъекта Российской Федерации, в том числе младенческая и материнская смертность, смертность населения  в трудоспособном возрасте, смертность населения от сердечно-сосудистых заболеваний, онкологических заболеваний, внешних причин, в результате дорожно-транспортных происшествий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ервичная заболеваемость основными социально-значимыми болезням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ервичная инвалидность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балансированность территориальной программы государственных гарантий по видам и объемам медицинской помощи в соответствии с установленными Программой нормативам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роки ожидания гражданами медицинской и реабилитационной помощи по видам и условиям оказани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0738-27F6-4354-880A-B0482891598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им из основных факторов создания системы качественной и доступной медицинской помощи является наличие единых для всей территории Российской Федерации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ядков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тандарт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казания медицинской помощи при наиболее распространенных и социально-значимых заболеваниях и патологических состояния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андарты медицинской помощи разрабатываются в соответствии с показателями Программы государственных гарантий, и их выполнение гарантируется гражданам на всей территории Российской Федер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D697-0ED0-4CC9-B990-614BAF4A6FD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мпоненты  развития системы врачебного самоуправления 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 системы корпоративной ответственности за качество оказываемой медицинской помощ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йтинговая оценка результатов работы каждого члена медицинского коллектива в зависимости от  эффективности и результативности его рабо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рпоративное распределение финансовых средств за оказанные медицинские услуги (переход на новые формы оплаты труд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системы персональных допусков к видам медицинской деятельности в зависимости от уровня их слож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мотивации медицинских работников к непрерывному профессиональному образованию и приобретению допусков к новым видам медицинской деятельности в рамках основной  специальности или смежных областей медицин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5A7F-00C5-40E5-8FC2-53EB1A482C6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мпоненты  развития системы врачебного самоуправления 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02E4-94E9-4047-85E3-1DACC943E27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адровое обеспечение системы здравоохранени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едение численности и структуры медицинских кадров в соответствие с объемами деятельности персонала и перспективными задачами. Устранение дублирования функций, перераспределение функций между различными профессиональными группами (врачи и сестринский персонал, медицинские сестры и младшие медицинские сестры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адровое обеспечение системы здравоохранени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шение профессионального уровня работников здравоохранения на основе дальнейшего развития системы непрерывного образования медицинских и фармацевтических работни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ершенствование условий труда и его оплаты. Приведение системы оплаты труда в соответствие со сложностью, количеством и качеством оказания медицинской помощи. Модернизация рабочих мест, повышение технической оснащенности труда медицинских работни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0948-510D-4035-A307-3CD094909B4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8E3E-81E8-40F5-A32C-A5ABBB26AD0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адровое обеспечение системы здравоохранени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ершенствование нормативной правовой базы, определяющей профессиональную деятельность медицинского и фармацевтического персона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аботка комплекса мероприятий, направленных на повышение статуса врача и среднего медицинского персонала, на осознание медицинским работником потенциала  профессии и ее перспектив, значимости для обще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ка специалистов в сфере управления здравоохранение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овышение качества подготовки медицинских кадров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00040" y="1428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совершенствование подготовки управленческих кадров в здравоохранении и специалистов кадровых служб медицинских организаций, основанных на современных принципах управления качеством и стандартизации, многопрофильных профессиональных знаниях (юридических, экономических, психологических, социологических и др.) и навыках управления кадрам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разработка системы страхования ответственности медицинских работников на случай ошибки и при наличии степени риска медицинского вмешательства, а также личного страхования в случае, когда исполнение служебных обязанностей сопряжено с угрозой для жизни и здоровья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3DDD-3EDC-4678-A2E2-C4F1C414DEF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F1AB-D4E8-466D-8128-7887946135A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овышение качества подготовки медицинских кадров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ка единых критериев формирования профессионального сообщества по медицинским специальностям (группам специальностей),  развитие механизмов их участия в разработке стандартов оказания медицинской помощи, клинических протоколов, в лицензировании медицинской деятельности и сертификации специалистов;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овышение качества подготовки медицинских кадров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вершенствование работы аппарата главных внештатных специалистов с участием специалистов субъектов Российской Федерации, руководителей профильных научных  организаций, ведущих ученых, представителей профессиональных обществ и ассоциаций и др.;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роли научных, экспертных и консультативных органов; развитие медицинских профессиональных обществ и ассоциац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AFB2-542F-4556-B5E0-ACF45CCDE1F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322E-86B9-40F8-98B5-75341C924EB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становление Правительства РФ № 913 от 5 декабря 2008 г. «О Программе государственных гарантий оказания гражданам Российской Федерации бесплатной медицинской помощи на 2009 год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целях обеспечения конституционных прав граждан Российской Федерации на получение бесплатной медицинской помощи Правительство Российской Федерации постановляет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Утвердить прилагаемую Программу государственных гарантий оказания гражданам Российской Федерации бесплатной медицинской помощи на 2009 го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BB42-168C-49F4-9AD1-B92E699FBE9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rembrandt-anatomy"/>
          <p:cNvPicPr/>
          <p:nvPr/>
        </p:nvPicPr>
        <p:blipFill>
          <a:blip r:embed="rId1"/>
          <a:stretch/>
        </p:blipFill>
        <p:spPr>
          <a:xfrm>
            <a:off x="1071720" y="714240"/>
            <a:ext cx="714348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D8B0-0880-4F8E-AC13-DEF6B192B6F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лагодарю за внимани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BA80-894E-4685-BED3-BFE35DEE22F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«О Программе государственных гарантий оказания гражданам Российской Федерации бесплатной медицинской помощи на 2009 год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III. Источники финансового обеспечения медицинской помощ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оме того, за счет бюджетных ассигнований федерального бюджета, бюджетов субъектов Российской Федерации и местных бюджетов в установленном порядке осуществляется медицинская помощь, а также предоставляются медицинские и иные услуги в лепрозориях, центрах по профилактике и борьбе с синдромом приобретенного иммунодефицита и инфекционными заболеваниями, центрах медицинской профилактики, врачебно-физкультурных диспансерах, центрах профессиональной патологии, санаториях, в том числе детских и для детей с родителями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бюро судебно-медицинской экспертиз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патолого-анатомических бюро, медицинских информационно-аналитических центрах, бюро медицинской статистики, станциях переливания крови, центрах крови, центрах планирования семьи и репродукции,…, входящих в номенклатуру учреждений здравоохранения, утверждаемую Министерством здравоохранения и социального развития Российской Федерации, которые не участвуют в реализации территориальной программы обязательного медицинского страх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CAB3-0A52-49AD-9CA6-4B90350AB09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«О Программе государственных гарантий оказания гражданам Российской Федерации бесплатной медицинской помощи на 2009 год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VI. Критерии доступности и качества медицинской помощ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ерриториальной программой устанавливаются целевые значения критериев доступности и качества медицинской помощи, на основе которых проводится комплексная оценка уровня и динамики следующих показателей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удовлетворенность населения медицинской помощью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число лиц, страдающих социально значимыми болезнями, с установленным впервые в жизни диагнозом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число лиц, в возрасте 18 лет и старше, впервые признанных инвалидами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смертность населения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смертность населения в трудоспособном возрасте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смертность населения от сердечно-сосудистых заболеваний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смертность населения от онкологических заболеваний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1D3D-CDF2-4C8F-83F1-9DEA39C3099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«О Программе государственных гарантий оказания гражданам Российской Федерации бесплатной медицинской помощи на 2009 год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VI. Критерии доступности и качества медицинской помощ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смертность населения от внешних причин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смертность населения в результате дорожно-транспортных происшествий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материнская смертность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младенческая смертность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доступность медицинской помощи на основе оценки реализации нормативов объема медицинской помощи по видам в соответствии с Программой, а также установленных территориальной программой сроков ожидания гражданами медицинской помощи, предоставляемой в плановом порядке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эффективность использования ресурсов здравоохранения (кадровых, материально-технических, финансовых и других)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казатели смертности включены в государственные документ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004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клад «О состоянии здоровья населения Кировской области в 2008 году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сударственный доклад президента «О состоянии здоровья населения РФ в 2008 году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62B6-665A-4DCE-9021-160D67C82B3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40C8-BF38-4B8D-81D9-5DD5D98D154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Концепция развития системы здравоохранения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в Российской Федерации до 2020 г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.А. Голикова: «Мы представляем сегодня тот вариант документа, который был направлен на согласование в Министерство финансов, Министерство экономического развития и представлен в Правительство России. Основные цели и направления развития, которые позволят нам обеспечить доступность и качество медицинской помощи на основе единых требований и подходов и существенно улучшить ресурс здоровья наших граждан, заданы. Мы выходим на следующий раунд публичного обсуждения, чтобы превратить проект Концепцию уже в окончательный долгосрочный стратегический документ с детальными организационными и реализационными механизмами. После получения уточненных расчетов от министерств экономического блока Минздравсоцразвития проведет ряд широких публичных обсуждений. Приглашаем к дискуссии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CAC4-EEDD-48A7-8641-01027348179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Целями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азвития здравоохранения являютс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кращение к 2011 году убыли населения Российской Федерации и доведение численности до 145 млн. человек к 2020 год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величение ожидаемой продолжительности жизни населения до 75 ле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нижение общего коэффициента смертности до 10 (то есть в 1,5 раза по отношению к 2007 году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нижение показателя младенческой смертности до   7,5 на 1000 родившихся живыми (на 20% по отношению к 2007 г.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нижение показателя материнской смертности на 100 000 родившихся живыми до 18,6 (на 15,7% по отношению к 2007 г.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рмирование здорового образа жизни населения, в том числе снижение распространенности употребления табака до 25% и снижение потребление алкоголя до 9 л в год на душу насел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вышение качества и доступности медицинской помощи, гарантированной населению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A73D-7555-403F-B78F-CAF030F7435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Государственные гарантии оказания гражданам РФ бесплатной медицинской помощи должны быть законодательно определены, включая: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7120" y="157140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сточники финансового обеспечения государственных гарантий оказания гражданам Российской Федерации бесплатной медицинской помощ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ъем государственных гарантий оказания гражданам Российской Федерации бесплатной медицинской помощи в части видов, порядка и условий оказания медицинской помощ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порядок оценки эффективности исполнения государственных гарантий бесплатной медицинской помощи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ответственность за неисполнение показателей государственных гарантий бесплатной медицинской помощи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рядок разработки нормативных актов, конкретизирующих установленный законодательством Российской Федерации объем государственных гарантий бесплатной медицинской помощ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4:21:22Z</dcterms:created>
  <dc:creator>Дубровина</dc:creator>
  <dc:description/>
  <dc:language>en-US</dc:language>
  <cp:lastModifiedBy>Олег Шемякин</cp:lastModifiedBy>
  <dcterms:modified xsi:type="dcterms:W3CDTF">2009-05-22T04:35:50Z</dcterms:modified>
  <cp:revision>296</cp:revision>
  <dc:subject/>
  <dc:title>Слайд 1</dc:title>
</cp:coreProperties>
</file>