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5CBA-0974-4C39-B9D4-B96A28D0C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ми рассчитаны и предложены для внедрения в работу Бюро СМЭ РФ нормы нагрузки для врачей судебно-медицинских экспертов различных структурных подразделений. Работа по нормированию труда не может оставаться  в стационарном состоянии: растет эффективность и скорость работы техники, оптимизируются процессы труда. Требуется так же тщательное исследование и нормирование труда среднего и младшего медицинского персонала Бюро СМЭ, что является темой наших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5679-F5B3-4352-AAA3-D3DEEAE41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933-9430-4ABE-9633-77290D7C1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C05-8E9D-4F99-B867-3030C072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F01-CD5C-40A9-AAE3-EF520AF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B06-0FA6-4FFF-B02B-38D26E85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A19-0FD3-4375-B7D0-9FC3156C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C1E-EBE1-451F-8698-1C35B8A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5E4-73DF-4A7E-9357-AF6FA2A5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483-CDC0-4DA6-A106-64BCB02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C7B-2D8B-44CA-9893-D84AB0A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053-53F3-4715-9C68-9749F3FF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D24-979A-4453-A07F-9455866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092-F9F9-4463-8E00-ADB0A14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3D-2B04-4C30-B550-96ADA99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7B1-9913-4434-B065-AABC8EBBC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рование тру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Бюро СМЭ субъ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286080"/>
            <a:ext cx="43527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Наумов Э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Заславский Г.И.  д.м.н. Попов В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Ломов В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Лобан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Амелехина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5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435640" y="314172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деятельност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1584360"/>
          <a:ext cx="8429400" cy="4541760"/>
        </p:xfrm>
        <a:graphic>
          <a:graphicData uri="http://schemas.openxmlformats.org/drawingml/2006/table">
            <a:tbl>
              <a:tblPr/>
              <a:tblGrid>
                <a:gridCol w="1285920"/>
                <a:gridCol w="5286240"/>
                <a:gridCol w="1857240"/>
              </a:tblGrid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сслед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представленной документацией (направлением, постановлением, картой вызова СМП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ие недостающей информации от следователя, СМП, участкового уполномоченного, дежурного УВД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10 минут, необходимость выполнения  данного вида деятельности возникает при 10% экспертиз, таким образом (10*%)/100=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медицинской документацией, выписка из медицинской карты стационарного больного, диктовка результат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25минут, необходимость выполнения  данного вида деятельности возникает при 13,5% экспертиз (количество трупов поступивших из медицинских  учреждений), таким образом (25*13,5%)/100=3,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сследования труп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объема экспертно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последовательности исследований, объема специальных исследований, проб и метод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5391-B33D-424B-9FDA-B858A5A92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ая деятель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ка в морг и обратно (16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методики расчета, данный вид вспомогательной деятельности  для удобства расчета, был включен в основ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ая конференция,  что составляет 300 мин (рабочий д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а внутри учреждения 120 мин в месяц = 14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 вспомогательная деятельность в год составила 24900+300+1440=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664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E63C-44E9-453B-B979-ACD4B1E6F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помогательная 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500120"/>
          <a:ext cx="8572320" cy="4257720"/>
        </p:xfrm>
        <a:graphic>
          <a:graphicData uri="http://schemas.openxmlformats.org/drawingml/2006/table">
            <a:tbl>
              <a:tblPr/>
              <a:tblGrid>
                <a:gridCol w="1245960"/>
                <a:gridCol w="5348520"/>
                <a:gridCol w="197784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ренняя планерка в отдел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, подготов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я лично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временные отды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науч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 убор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900 мин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385-AA82-4796-8B36-13621F814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определено среднее  количество рабочих дней и норма рабочего времени при 5-ти дневной рабочей неделе за последние три года (2006, 2007, 200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=В/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9EC-873D-49A9-BA7F-B129156F2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овые расчеты по отделу экспертизы тру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, затраченное на выполнение 1 экспертизы составило 510, 73 мин  без учета дороги (в морг и обратно), с учетом времени дороги (16 мин) 526,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 = 8929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= 266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 6265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-Y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9298 мин – 26640 мин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2658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 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26,7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 9 часов. 3 мин. 42 сек. (с учетом дороги в морг и обратно = 16 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=В/Z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2658/526,73=118,9≈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 эксперт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6E59-9A1A-4AF6-BA0D-B1BDADFE3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356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35 от 27.02.9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131 от 22.04.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ы труп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 экспертных исследований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экспертизы потерпевших, обвиняемых и др. 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 экспертных об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F9B-3A10-4F96-9E68-D68FC098B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571760"/>
          <a:ext cx="8229600" cy="4522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57320"/>
                <a:gridCol w="21574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сложных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экспертиз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экспертизы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экспертиз 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5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би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предме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экспертных исследований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ов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бъект - исследований в год (из расче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экспертное исслед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220-397D-4BB6-99DB-F78218A9D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2143080"/>
                <a:gridCol w="1971720"/>
                <a:gridCol w="1814400"/>
                <a:gridCol w="230040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хим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анализов в год при отсутствии ХМС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ных анализов при наличии Х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криминалистическое отделение 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, 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ных исследований в год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расчет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 менее 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исследова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4BB-31D7-4C0A-AE4B-B123D550B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1571760"/>
          <a:ext cx="8229600" cy="380052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571400"/>
                <a:gridCol w="280044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идентификационных экспертных исследований по установлению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гис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или 28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ний (при взятии не менее 7 кусочков на одно исследование) ил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9F4-2D0C-41FE-B71A-0F2B678AA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1143000"/>
          <a:ext cx="8229600" cy="548964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85960"/>
                <a:gridCol w="2585880"/>
              </a:tblGrid>
              <a:tr h="136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екулярно-генет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условных генот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ых генотипов в год при автоматизированном типирован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 автоматизированном типирова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нтгено-флюоресцентный спектраль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0 объект 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ение луче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47B-9433-45B7-88A3-FB944D64A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в большинстве учреждений современных научно-обоснованных нормативов нагрузки для врачей - судебно-медицинских экспе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й приказ МЗ РСФСР от 27.02.1991 г. №35 «О дальнейшем развитии и совершенствовании судебно-медицинской экспертизы в РСФСР», носит рекомендательный характер и не учитывает прогрессивных организационно-технических условий, произошедших в экспертных 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Бюро  во многих субъектах РФ происходит по остаточному принципу , без учета растущих объемов производства экспертиз и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управления здравоохранением, мотивируя наличием фактов  выполнения экспертами в пределах рабочего времени объемов, в несколько раз превышающих нормативы, установленные 35 - ым приказом, требуют  их пересмотра нагрузки в сторону  увели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903-7CC3-44A5-ABA7-292B1BC29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1857240"/>
                <a:gridCol w="2000520"/>
                <a:gridCol w="1785960"/>
                <a:gridCol w="25858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е, городские и межрайонные отделения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350 «живых»; 60 экспертиз с самостоятельными гистологическими исследованиями и не более 350 «живы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250 «живых». Гистологические исследования рассчитываются от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экспертных исследований трупов и не более 150 экспертных обследований «живых» лиц в год  в городских и районных отделениях СМЭ или 90 экспертных исследований трупов и не более 150 экспертных обследований «живых» лиц в год в межрайонных отделениях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EA2-B9F1-42C9-85A4-41CB8B996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1357200"/>
          <a:ext cx="8300880" cy="5213520"/>
        </p:xfrm>
        <a:graphic>
          <a:graphicData uri="http://schemas.openxmlformats.org/drawingml/2006/table">
            <a:tbl>
              <a:tblPr/>
              <a:tblGrid>
                <a:gridCol w="1928520"/>
                <a:gridCol w="2000520"/>
                <a:gridCol w="1785960"/>
                <a:gridCol w="2585880"/>
              </a:tblGrid>
              <a:tr h="13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ци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химическая лабора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в зависимости от категори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полных анализ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иссион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A15-AC14-4594-8F22-108168FCF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572080" y="3286080"/>
            <a:ext cx="3132360" cy="3113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4714920"/>
            <a:ext cx="43527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умов Э.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 оптимальные нормативы труда для экспертных отделов и отделений Бюро судебно-медицинской экспертизы субъект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E4F-1F36-4454-B5B5-1A6718606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анализ действующих законодательных нормативных актов, регулирующих порядок и способы нормирования труда в государственных бюджет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ать методику хронометража и расчета нормативов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хронометражные исследования и рассчитать нормативы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сопоставление полученных данных с результатами аналогичных исследований других государственных судебно-медицинских экспертн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EB8-2B09-4D38-A20C-CCF20DEBC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е экспертизы и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ие показатели работы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обязанности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 хронометражных наблю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D81-04D8-4B68-90EA-F4E76A187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ОПРЕДЕЛЕНИЯ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вались: письмо Минздрава СССР от 2 октября 1987 г.№02-14/82-14 «Методические рекомендации по нормированию труда медицинского персонала», подготовлено планово - финансовым управлением Минздрава СССР (Кищенко Л.П., Бояринцев Б.И., Житников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-исследовательский метод - установление норм на основе непосредственного изучения процесса труда, расчленения его на составляющие элементы, измерения затрат рабочего времени по всем элементам выполняемых работ, составление оптимальной модели организаци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ое нормирование характеризуется сложностью и трудоемкостью, оно связано с проведением множества наблюдений, опытов, замеров и расчетов, что значительно удорожает разработку научно - обоснованных норм труда. Метод требует больших затрат труда исследователя, но он позволяет выявлять и учитывать передовые методы и приемы труда, получать прогрессивны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85B1-1076-48F2-B40D-B0E575ACA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ческий мет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ий мет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расчетный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мма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EC1-8135-44D6-856A-092AD2CC5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изучения объема деятельности медицинского персонала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ет работу всех структур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состоит из 5 основных 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правок  о плановых показателях для расчета штатов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тное расписание учреждения, ведомость замены дол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а амбулаторно - поликлинически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 персонала эксперт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медицинского персонала общеучрежденческих подразделений и вспомогательн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70D8-4A25-4645-A772-284567D77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атрат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окумент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ые разгов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е необходим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груж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0A3-DDE8-4C8D-93E1-84F8A28AB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06:30Z</dcterms:created>
  <dc:creator>Наумов Эдуард Сергеевич</dc:creator>
  <dc:description/>
  <dc:language>en-US</dc:language>
  <cp:lastModifiedBy>Наумов Э С</cp:lastModifiedBy>
  <dcterms:modified xsi:type="dcterms:W3CDTF">2009-05-21T04:54:22Z</dcterms:modified>
  <cp:revision>60</cp:revision>
  <dc:subject/>
  <dc:title>Инструмент оценки мотивационного профиля персонала</dc:title>
</cp:coreProperties>
</file>