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17CB-90BA-4D0B-9EA8-F8622B35D0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нами рассчитаны и предложены для внедрения в работу Бюро СМЭ РФ нормы нагрузки для врачей судебно-медицинских экспертов различных структурных подразделений. Работа по нормированию труда не может оставаться  в стационарном состоянии: растет эффективность и скорость работы техники, оптимизируются процессы труда. Требуется так же тщательное исследование и нормирование труда среднего и младшего медицинского персонала Бюро СМЭ, что является темой наших дальнейших исследо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C701-BF79-4E77-85C7-C0B6832B1C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5700-5259-451A-9FBB-749B835435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AE9A-4D6F-4A4A-A629-FCCB59DBE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ABBF-B029-4FCF-8E1F-B20BFC6B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B842-D09C-4F1F-B6D1-05BC5537B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E862-C37E-433B-A5AA-30812B919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E597-6EF4-4939-A194-6AE12A6B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CFF8-2420-4D8C-B56D-E87C25CB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C9FC-37D7-4F5E-91B3-FF9BEFE2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23BF-3885-484C-9A38-DD19F72F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E3D3-766B-46BA-9C99-68916456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C6D5-0D3C-4241-BF0B-38AFB96C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FE65-3B42-4366-BBCE-1984F1B9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AEA7-2A94-4658-B421-0269F618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6DAE-BC87-4409-A417-CC32C4587B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ормирование труда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 Бюро СМЭ субъекта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ссийской Федер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71280" y="3286080"/>
            <a:ext cx="4352760" cy="26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.м.н. Наумов Э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.м.н. Заславский Г.И.  д.м.н. Попов В.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.м.н. Ломов В.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.м.н. Лобан И.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.м.н. Амелехина О.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1.05.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Рисунок2"/>
          <p:cNvPicPr/>
          <p:nvPr/>
        </p:nvPicPr>
        <p:blipFill>
          <a:blip r:embed="rId1">
            <a:lum bright="-18000"/>
          </a:blip>
          <a:srcRect l="42748" t="0" r="0" b="0"/>
          <a:stretch/>
        </p:blipFill>
        <p:spPr>
          <a:xfrm>
            <a:off x="5435640" y="3141720"/>
            <a:ext cx="313200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ая деятельность</a:t>
            </a:r>
            <a:br>
              <a:rPr sz="5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28760" y="1584360"/>
          <a:ext cx="8429400" cy="4541760"/>
        </p:xfrm>
        <a:graphic>
          <a:graphicData uri="http://schemas.openxmlformats.org/drawingml/2006/table">
            <a:tbl>
              <a:tblPr/>
              <a:tblGrid>
                <a:gridCol w="1285920"/>
                <a:gridCol w="5286240"/>
                <a:gridCol w="1857240"/>
              </a:tblGrid>
              <a:tr h="39384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ятельнос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рем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готовка исслед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1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омление с представленной документацией (направлением, постановлением, картой вызова СМП)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2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лучение недостающей информации от следователя, СМП, участкового уполномоченного, дежурного УВД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актически затраченное время – 10 минут, необходимость выполнения  данного вида деятельности возникает при 10% экспертиз, таким образом (10*%)/100=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92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3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бота с медицинской документацией, выписка из медицинской карты стационарного больного, диктовка результатов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актически затраченное время – 25минут, необходимость выполнения  данного вида деятельности возникает при 13,5% экспертиз (количество трупов поступивших из медицинских  учреждений), таким образом (25*13,5%)/100=3,4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анирование исследования труп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1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 объема экспертной работ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2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 последовательности исследований, объема специальных исследований, проб и методи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09FF-23D1-48E8-841D-9E705C3B8D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иодическая деятельность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ездка в морг и обратно (16 ми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ходя из методики расчета, данный вид вспомогательной деятельности  для удобства расчета, был включен в основную деятель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жегодная конференция,  что составляет 300 мин (рабочий ден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а внутри учреждения 120 мин в месяц = 1440 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того вспомогательная деятельность в год составила 24900+300+1440=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26640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9929-37C0-47F0-B359-7A270C0B2A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спомогательная деятельность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85840" y="1500120"/>
          <a:ext cx="8572320" cy="4257720"/>
        </p:xfrm>
        <a:graphic>
          <a:graphicData uri="http://schemas.openxmlformats.org/drawingml/2006/table">
            <a:tbl>
              <a:tblPr/>
              <a:tblGrid>
                <a:gridCol w="1245960"/>
                <a:gridCol w="5348520"/>
                <a:gridCol w="1977840"/>
              </a:tblGrid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я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тренняя планерка в отдел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одевание, подготовка рабочего ме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роприятия личного характ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атковременные отдых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х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тение научной литерат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одевание уборка рабочего ме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900 мин/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045F-0E93-41E0-B579-AFAA63081E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ч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42884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о определено среднее  количество рабочих дней и норма рабочего времени при 5-ти дневной рабочей неделе за последние три года (2006, 2007, 2008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Х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норма рабочего времени в год (в минутах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вспомогательная деятельность в год  (в минутах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время работы (чистое) в год в минут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=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Х-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Z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реднее время затраченное на выполнение одной экспертизы (основная деятельност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количество экспертиз выполненных в год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=В/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E27D-C8AB-4675-9678-7536B0006E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тоговые расчеты по отделу экспертизы труп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нее время, затраченное на выполнение 1 экспертизы составило 510, 73 мин  без учета дороги (в морг и обратно), с учетом времени дороги (16 мин) 526,7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Х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норма рабочего времени в год (в минутах) = 89298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Y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вспомогательная деятельность в год  (в минутах)= 2664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время работы (чистое) в год в минутах 62658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=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Х-Y=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9298 мин – 26640 мин =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62658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Z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реднее время затраченное на выполнение одной экспертизы (основная деятельность) =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526,7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ли  9 часов. 3 мин. 42 сек. (с учетом дороги в морг и обратно = 16 ми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количество экспертиз выполненных в год =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119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М=В/Z=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2658/526,73=118,9≈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119 экспертиз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9A81-7693-4EE1-9504-17D5FAA5CD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щие ит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57200" y="1600200"/>
          <a:ext cx="8229600" cy="35686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482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раз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рмативы по приказу МЗ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 35 от 27.02.91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рмативы по приказу МЗ РФ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 131 от 22.04.98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лагаемая нагруз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988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де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спертизы труп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спертиз в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спертиз в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0 экспертных исследований в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 экспертизы потерпевших, обвиняемых и др. ли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ертиз в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ертиз в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0 экспертных обследов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г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9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A306-CCD6-4641-B0D3-427136D079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щие ит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00040" y="1571760"/>
          <a:ext cx="8229600" cy="45226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1957320"/>
                <a:gridCol w="2157480"/>
              </a:tblGrid>
              <a:tr h="136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ы по приказу МЗ РФ N 35 от 27.02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ы по приказу МЗ РФ N 131 от 22.04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мая нагруз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209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дел сложных эксперт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 экспертиз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 экспертизы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 экспертиз 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951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дебно-биологическое от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50 объект-исследований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 эксперт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0 предметов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0 объект - исследований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7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экспертных исследований ил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5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метов ил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8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объект - исследований в год (из расчета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ъектов на 1 экспертное исследова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9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CF46-C6B8-4979-A6A2-7D6426CD5A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щие ит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00040" y="1571760"/>
          <a:ext cx="8229600" cy="4287600"/>
        </p:xfrm>
        <a:graphic>
          <a:graphicData uri="http://schemas.openxmlformats.org/drawingml/2006/table">
            <a:tbl>
              <a:tblPr/>
              <a:tblGrid>
                <a:gridCol w="2143080"/>
                <a:gridCol w="1971720"/>
                <a:gridCol w="1814400"/>
                <a:gridCol w="2300400"/>
              </a:tblGrid>
              <a:tr h="136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ы по приказу МЗ РФ N 35 от 27.02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ы по приказу МЗ РФ N 131 от 22.04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мая нагруз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219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дебно-химическое от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 полных анализ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 полных анализ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лных анализов в год при отсутствии ХМС и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полных анализов при наличии ХМ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706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ико-криминалистическое отделение идентификация лич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0 объект - исследований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 экспертиз, 2000 объект - исследований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спертных исследований в год,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00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ъект - исследований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расчета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не менее 40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ъектов на 1 исследование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9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A122-5319-4F26-AB48-BC672B9739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щие ит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00040" y="1571760"/>
          <a:ext cx="8229600" cy="3800520"/>
        </p:xfrm>
        <a:graphic>
          <a:graphicData uri="http://schemas.openxmlformats.org/drawingml/2006/table">
            <a:tbl>
              <a:tblPr/>
              <a:tblGrid>
                <a:gridCol w="2143080"/>
                <a:gridCol w="1714680"/>
                <a:gridCol w="1571400"/>
                <a:gridCol w="2800440"/>
              </a:tblGrid>
              <a:tr h="136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ы по приказу МЗ РФ N 35 от 27.02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ы по приказу МЗ РФ N 131 от 22.04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мая нагруз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219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дентификация лич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00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ъект - исследований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лных идентификационных экспертных исследований по установлению лич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219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дебно-гистологическое от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0 исследований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0 исследований или 2800 объект - исследований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0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следований (при взятии не менее 7 кусочков на одно исследование) или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00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ъект - исследований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10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C16B-479E-4008-97E1-54365C9DCA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щие ит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00040" y="1143000"/>
          <a:ext cx="8229600" cy="5489640"/>
        </p:xfrm>
        <a:graphic>
          <a:graphicData uri="http://schemas.openxmlformats.org/drawingml/2006/table">
            <a:tbl>
              <a:tblPr/>
              <a:tblGrid>
                <a:gridCol w="2143080"/>
                <a:gridCol w="1714680"/>
                <a:gridCol w="1785960"/>
                <a:gridCol w="2585880"/>
              </a:tblGrid>
              <a:tr h="136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ы по приказу МЗ РФ N 35 от 27.02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ы по приказу МЗ РФ N 131 от 22.04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мая нагруз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706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лекулярно-генетическое от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0 условных генотип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50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ловных генотипов в год при автоматизированном типировании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0 -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 не автоматизированном типирован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209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нтгено-флюоресцентный спектральный анал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000 объект -исследований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211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деление лучевой диагност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0 объект - исследований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10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1562-5C06-41E0-A22F-738519F958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утствие в большинстве учреждений современных научно-обоснованных нормативов нагрузки для врачей - судебно-медицинских экспер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ующий приказ МЗ РСФСР от 27.02.1991 г. №35 «О дальнейшем развитии и совершенствовании судебно-медицинской экспертизы в РСФСР», носит рекомендательный характер и не учитывает прогрессивных организационно-технических условий, произошедших в экспертных учреждени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нансирование Бюро  во многих субъектах РФ происходит по остаточному принципу , без учета растущих объемов производства экспертиз и исследовани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ы управления здравоохранением, мотивируя наличием фактов  выполнения экспертами в пределах рабочего времени объемов, в несколько раз превышающих нормативы, установленные 35 - ым приказом, требуют  их пересмотра нагрузки в сторону  увелич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D53D-B2E9-4161-AC3F-D7AF1E6A5A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щие ит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00040" y="1571760"/>
          <a:ext cx="8229600" cy="4287600"/>
        </p:xfrm>
        <a:graphic>
          <a:graphicData uri="http://schemas.openxmlformats.org/drawingml/2006/table">
            <a:tbl>
              <a:tblPr/>
              <a:tblGrid>
                <a:gridCol w="1857240"/>
                <a:gridCol w="2000520"/>
                <a:gridCol w="1785960"/>
                <a:gridCol w="2585880"/>
              </a:tblGrid>
              <a:tr h="136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ы по приказу МЗ РФ N 35 от 27.02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ы по приказу МЗ РФ N 131 от 22.04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мая нагруз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925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йонные, городские и межрайонные отделения СМ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0 экспертиз без гистологии и не более 350 «живых»; 60 экспертиз с самостоятельными гистологическими исследованиями и не более 350 «живых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0 экспертиз без гистологии и не более 250 «живых». Гистологические исследования рассчитываются отд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 экспертных исследований трупов и не более 150 экспертных обследований «живых» лиц в год  в городских и районных отделениях СМЭ или 90 экспертных исследований трупов и не более 150 экспертных обследований «живых» лиц в год в межрайонных отделениях СМ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10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7929-98DF-4F22-83F0-651EBFA9EE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щие ит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28760" y="1357200"/>
          <a:ext cx="8300880" cy="5213520"/>
        </p:xfrm>
        <a:graphic>
          <a:graphicData uri="http://schemas.openxmlformats.org/drawingml/2006/table">
            <a:tbl>
              <a:tblPr/>
              <a:tblGrid>
                <a:gridCol w="1928520"/>
                <a:gridCol w="2000520"/>
                <a:gridCol w="1785960"/>
                <a:gridCol w="2585880"/>
              </a:tblGrid>
              <a:tr h="134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ы по приказу МЗ РФ N 35 от 27.02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ы по приказу МЗ РФ N 131 от 22.04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мая нагруз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193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дебно-цитологическое от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0 препаратов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0 препаратов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338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иохимическая лаборато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анавливается в зависимости от категории учреж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 полных анализ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5 полных анализов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338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миссионный анал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0 объект-исследований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0 объект - исследований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11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0D37-DCB2-4BC7-A313-BAE219350C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5480" y="428400"/>
            <a:ext cx="8643960" cy="19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пасибо за внимани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Рисунок2"/>
          <p:cNvPicPr/>
          <p:nvPr/>
        </p:nvPicPr>
        <p:blipFill>
          <a:blip r:embed="rId1">
            <a:lum bright="-18000"/>
          </a:blip>
          <a:srcRect l="42748" t="0" r="0" b="0"/>
          <a:stretch/>
        </p:blipFill>
        <p:spPr>
          <a:xfrm>
            <a:off x="5572080" y="3286080"/>
            <a:ext cx="3132360" cy="31132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68000" y="4714920"/>
            <a:ext cx="4352760" cy="8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умов Э.С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ель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новить оптимальные нормативы труда для экспертных отделов и отделений Бюро судебно-медицинской экспертизы субъекта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43F7-4A41-4F95-8C20-E941DFFA90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0012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вести анализ действующих законодательных нормативных актов, регулирующих порядок и способы нормирования труда в государственных бюджетных медицинских учреждениях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работать методику хронометража и расчета нормативов нагрузки для врачей - судебно-медицинских экспертов различных структурных подразделени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вести хронометражные исследования и рассчитать нормативы нагрузки для врачей - судебно-медицинских экспертов различных структурных подразделени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вести сопоставление полученных данных с результатами аналогичных исследований других государственных судебно-медицинских экспертных учрежд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D292-7838-4E30-B3AE-1A158749E8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териал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ктические экспертизы и исслед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истические показатели работы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жностные обязанности персонал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ты хронометражных наблюде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7733-B19B-4AEE-A016-8CCF5DBBEE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КА ОПРЕДЕЛЕНИЯ НОРМАТИВ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ствовались: письмо Минздрава СССР от 2 октября 1987 г.№02-14/82-14 «Методические рекомендации по нормированию труда медицинского персонала», подготовлено планово - финансовым управлением Минздрава СССР (Кищенко Л.П., Бояринцев Б.И., Житников Ю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тически-исследовательский метод - установление норм на основе непосредственного изучения процесса труда, расчленения его на составляющие элементы, измерения затрат рабочего времени по всем элементам выполняемых работ, составление оптимальной модели организации тру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тически - исследовательское нормирование характеризуется сложностью и трудоемкостью, оно связано с проведением множества наблюдений, опытов, замеров и расчетов, что значительно удорожает разработку научно - обоснованных норм труда. Метод требует больших затрат труда исследователя, но он позволяет выявлять и учитывать передовые методы и приемы труда, получать прогрессивные нор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982C-1EC8-4192-966B-6E77FADC16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алитический метод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тически - исследовательский метод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тически - расчетный мето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ммарный мет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ытный мет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тистический мет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ительный мет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B1D6-D05C-4337-8982-ABFFB4D13C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бор дан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та изучения объема деятельности медицинского персонала  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ажает работу всех структурных подразделений учре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та состоит из 5 основных раздел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е справок  о плановых показателях для расчета штатов учре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татное расписание учреждения, ведомость замены долж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ем деятельности и организация работы медицинског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а амбулаторно - поликлинических подразделений учре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ем деятельности и организация работы медицинского персонала экспертных подразделений учре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ем деятельности медицинского персонала общеучрежденческих подразделений и вспомогательной служб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FA09-AD6F-4EF8-879B-B933C388DA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затрат рабочего врем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помогательн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ая деятель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с документаци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ужебные разгово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чное необходимое врем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загруженное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A556-460C-40FF-A806-962E0A8149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21:06:30Z</dcterms:created>
  <dc:creator>Наумов Эдуард Сергеевич</dc:creator>
  <dc:description/>
  <dc:language>en-US</dc:language>
  <cp:lastModifiedBy>Наумов Э С</cp:lastModifiedBy>
  <dcterms:modified xsi:type="dcterms:W3CDTF">2009-05-21T04:54:22Z</dcterms:modified>
  <cp:revision>60</cp:revision>
  <dc:subject/>
  <dc:title>Инструмент оценки мотивационного профиля персонала</dc:title>
</cp:coreProperties>
</file>