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4C2D-E8A7-4A09-9DBB-393D47DCBB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нами рассчитаны и предложены для внедрения в работу Бюро СМЭ РФ нормы нагрузки для врачей судебно-медицинских экспертов различных структурных подразделений. Работа по нормированию труда не может оставаться  в стационарном состоянии: растет эффективность и скорость работы техники, оптимизируются процессы труда. Требуется так же тщательное исследование и нормирование труда среднего и младшего медицинского персонала Бюро СМЭ, что является темой наших дальнейши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AF4A-EB21-4977-AEDE-AE83FA4D3E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3F59-7BFA-4311-BB84-6C09A58909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2CF-02A4-4ABA-B94E-D415E49C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5ED2-4F7D-4D1F-8A69-FA746C88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6E6-0BB6-4A2D-88A7-F4808F57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66C-6953-4717-89A5-114D0A6D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9FAB-2CA3-4D59-93E9-5D95C9D9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4E06-5CF9-454A-9399-A90CA25B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E80-967C-4A71-BAB5-D7F9EC4A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EBB-8C82-4A2C-8976-F3260E9A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701-2365-4892-99BF-06944005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B38-37FE-43D2-BC7D-9042FE67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4A4B-70A7-45A3-93BA-823E5D4A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E592-C3A2-4D1E-8E94-8ACE757E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551A-5018-4F62-ABAA-FBE573A96B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ормирование труд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 Бюро СМЭ субъект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71280" y="3286080"/>
            <a:ext cx="4352760" cy="26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.м.н. Наумов Э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м.н. Заславский Г.И.  д.м.н. Попов В.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.м.н. Ломов В.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м.н. Лобан И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.м.н. Амелехина О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.05.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2"/>
          <p:cNvPicPr/>
          <p:nvPr/>
        </p:nvPicPr>
        <p:blipFill>
          <a:blip r:embed="rId1">
            <a:lum bright="-18000"/>
          </a:blip>
          <a:srcRect l="42748" t="0" r="0" b="0"/>
          <a:stretch/>
        </p:blipFill>
        <p:spPr>
          <a:xfrm>
            <a:off x="5435640" y="3141720"/>
            <a:ext cx="31320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ая деятельность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28760" y="1584360"/>
          <a:ext cx="8429400" cy="4541760"/>
        </p:xfrm>
        <a:graphic>
          <a:graphicData uri="http://schemas.openxmlformats.org/drawingml/2006/table">
            <a:tbl>
              <a:tblPr/>
              <a:tblGrid>
                <a:gridCol w="1285920"/>
                <a:gridCol w="5286240"/>
                <a:gridCol w="1857240"/>
              </a:tblGrid>
              <a:tr h="39384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готовка исслед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ление с представленной документацией (направлением, постановлением, картой вызова СМП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учение недостающей информации от следователя, СМП, участкового уполномоченного, дежурного УВД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тически затраченное время – 10 минут, необходимость выполнения  данного вида деятельности возникает при 10% экспертиз, таким образом (10*%)/100=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92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 с медицинской документацией, выписка из медицинской карты стационарного больного, диктовка результатов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тически затраченное время – 25минут, необходимость выполнения  данного вида деятельности возникает при 13,5% экспертиз (количество трупов поступивших из медицинских  учреждений), таким образом (25*13,5%)/100=3,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ование исследования труп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1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объема экспертной рабо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последовательности исследований, объема специальных исследований, проб и методи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D619-1495-45E8-AD1F-B745739A1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иодическая деятельность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ездка в морг и обратно (16 м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ходя из методики расчета, данный вид вспомогательной деятельности  для удобства расчета, был включен в основную дея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ая конференция,  что составляет 300 мин (рабочий де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а внутри учреждения 120 мин в месяц = 1440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ого вспомогательная деятельность в год составила 24900+300+1440=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2664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56A5-2F5A-43AA-A1D5-F3F5B106F3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помогательная деятельност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85840" y="1500120"/>
          <a:ext cx="8572320" cy="4257720"/>
        </p:xfrm>
        <a:graphic>
          <a:graphicData uri="http://schemas.openxmlformats.org/drawingml/2006/table">
            <a:tbl>
              <a:tblPr/>
              <a:tblGrid>
                <a:gridCol w="1245960"/>
                <a:gridCol w="5348520"/>
                <a:gridCol w="1977840"/>
              </a:tblGrid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тренняя планерка в отдел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одевание, подготовка рабочего м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роприятия личного характ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тковременные отдых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ение научной лит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одевание уборка рабочего м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900 мин/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E45D-7324-4B3D-BBCD-5939FEDA6B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определено среднее  количество рабочих дней и норма рабочего времени при 5-ти дневной рабочей неделе за последние три года (2006, 2007, 200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норма рабочего времени в год (в минута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спомогательная деятельность в год  (в минута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ремя работы (чистое) в год в минут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-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реднее время затраченное на выполнение одной экспертизы (основная деятель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количество экспертиз выполненных в го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=В/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6EF7-E684-4DC1-85EB-3D29C3C57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овые расчеты по отделу экспертизы труп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е время, затраченное на выполнение 1 экспертизы составило 510, 73 мин  без учета дороги (в морг и обратно), с учетом времени дороги (16 мин) 526,7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Х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норма рабочего времени в год (в минутах) = 89298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вспомогательная деятельность в год  (в минутах)= 2664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время работы (чистое) в год в минутах 62658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Х-Y=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9298 мин – 26640 мин =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62658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реднее время затраченное на выполнение одной экспертизы (основная деятельность) =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526,7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 9 часов. 3 мин. 42 сек. (с учетом дороги в морг и обратно = 16 м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количество экспертиз выполненных в год =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119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=В/Z=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2658/526,73=118,9≈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119 эксперти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3DC9-88B4-48AE-A169-FF1D9E6B80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00200"/>
          <a:ext cx="8229600" cy="3568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48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рмативы по приказу МЗ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 35 от 27.02.91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рмативы по приказу МЗ Р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 131 от 22.04.98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988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ертизы труп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ертиз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ертиз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0 экспертных исследований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экспертизы потерпевших, обвиняемых и др. л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из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из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0 экспертных обследо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5AFE-9736-45CC-AE83-6E73EBFC2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0040" y="1571760"/>
          <a:ext cx="8229600" cy="4522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1957320"/>
                <a:gridCol w="2157480"/>
              </a:tblGrid>
              <a:tr h="136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09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 сложных эксперт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 экспертиз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 экспертизы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экспертиз 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951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ебно-биологическое 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50 объект-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 эксперт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0 предмето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экспертных исследований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5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метов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8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объект - исследований в год (из расчет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ов на 1 экспертное исследов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9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DE20-7356-445C-B167-09AFC4D72F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00040" y="1571760"/>
          <a:ext cx="8229600" cy="4287600"/>
        </p:xfrm>
        <a:graphic>
          <a:graphicData uri="http://schemas.openxmlformats.org/drawingml/2006/table">
            <a:tbl>
              <a:tblPr/>
              <a:tblGrid>
                <a:gridCol w="2143080"/>
                <a:gridCol w="1971720"/>
                <a:gridCol w="1814400"/>
                <a:gridCol w="2300400"/>
              </a:tblGrid>
              <a:tr h="136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19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ебно-химическое 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 полных анали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 полных анали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ных анализов в год при отсутствии ХМС 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олных анализов при наличии ХМ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706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криминалистическое отделение идентификация лич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 экспертиз, 20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ертных исследований в год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 - исследований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расчет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не менее 4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ов на 1 исследовани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9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2BCD-F882-4BD8-B34C-2796D320A2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0040" y="1571760"/>
          <a:ext cx="8229600" cy="3800520"/>
        </p:xfrm>
        <a:graphic>
          <a:graphicData uri="http://schemas.openxmlformats.org/drawingml/2006/table">
            <a:tbl>
              <a:tblPr/>
              <a:tblGrid>
                <a:gridCol w="2143080"/>
                <a:gridCol w="1714680"/>
                <a:gridCol w="1571400"/>
                <a:gridCol w="2800440"/>
              </a:tblGrid>
              <a:tr h="136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19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дентификация лич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0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 - исследований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ных идентификационных экспертных исследований по установлению лич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19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ебно-гистологическое 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0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0 исследований или 28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следований (при взятии не менее 7 кусочков на одно исследование) ил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0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C344-CFDA-422D-B3ED-6A89A4D41F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00040" y="1143000"/>
          <a:ext cx="8229600" cy="5489640"/>
        </p:xfrm>
        <a:graphic>
          <a:graphicData uri="http://schemas.openxmlformats.org/drawingml/2006/table">
            <a:tbl>
              <a:tblPr/>
              <a:tblGrid>
                <a:gridCol w="2143080"/>
                <a:gridCol w="1714680"/>
                <a:gridCol w="1785960"/>
                <a:gridCol w="2585880"/>
              </a:tblGrid>
              <a:tr h="136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706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лекулярно-генетическое 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 условных генотип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ных генотипов в год при автоматизированном типировани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0 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не автоматизированном типирован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09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нтгено-флюоресцентный спектральный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00 объект -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11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ение лучевой диагнос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0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1D1F-E7D9-4BBE-8952-13032666BC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в большинстве учреждений современных научно-обоснованных нормативов нагрузки для врачей - судебно-медицинских экспер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ющий приказ МЗ РСФСР от 27.02.1991 г. №35 «О дальнейшем развитии и совершенствовании судебно-медицинской экспертизы в РСФСР», носит рекомендательный характер и не учитывает прогрессивных организационно-технических условий, произошедших в экспертных учрежд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ирование Бюро  во многих субъектах РФ происходит по остаточному принципу , без учета растущих объемов производства экспертиз и исследова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ы управления здравоохранением, мотивируя наличием фактов  выполнения экспертами в пределах рабочего времени объемов, в несколько раз превышающих нормативы, установленные 35 - ым приказом, требуют  их пересмотра нагрузки в сторону  увелич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9E9A-A348-400C-978E-3E48BE23A9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00040" y="1571760"/>
          <a:ext cx="8229600" cy="4287600"/>
        </p:xfrm>
        <a:graphic>
          <a:graphicData uri="http://schemas.openxmlformats.org/drawingml/2006/table">
            <a:tbl>
              <a:tblPr/>
              <a:tblGrid>
                <a:gridCol w="1857240"/>
                <a:gridCol w="2000520"/>
                <a:gridCol w="1785960"/>
                <a:gridCol w="2585880"/>
              </a:tblGrid>
              <a:tr h="136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25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йонные, городские и межрайонные отделения СМ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 экспертиз без гистологии и не более 350 «живых»; 60 экспертиз с самостоятельными гистологическими исследованиями и не более 350 «живых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 экспертиз без гистологии и не более 250 «живых». Гистологические исследования рассчитываются отд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экспертных исследований трупов и не более 150 экспертных обследований «живых» лиц в год  в городских и районных отделениях СМЭ или 90 экспертных исследований трупов и не более 150 экспертных обследований «живых» лиц в год в межрайонных отделениях СМ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0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8C70-5409-42A2-A3C3-37E2C0AFDB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28760" y="1357200"/>
          <a:ext cx="8300880" cy="5213520"/>
        </p:xfrm>
        <a:graphic>
          <a:graphicData uri="http://schemas.openxmlformats.org/drawingml/2006/table">
            <a:tbl>
              <a:tblPr/>
              <a:tblGrid>
                <a:gridCol w="1928520"/>
                <a:gridCol w="2000520"/>
                <a:gridCol w="1785960"/>
                <a:gridCol w="2585880"/>
              </a:tblGrid>
              <a:tr h="13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193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ебно-цитологическое 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 препаратов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 препаратов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3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охимическая лабора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авливается в зависимости от категории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 полных анали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 полных анализов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38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иссионный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0 объект-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1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1259-C6FD-4BC6-9B4D-865690F4DD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480" y="428400"/>
            <a:ext cx="8643960" cy="19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Рисунок2"/>
          <p:cNvPicPr/>
          <p:nvPr/>
        </p:nvPicPr>
        <p:blipFill>
          <a:blip r:embed="rId1">
            <a:lum bright="-18000"/>
          </a:blip>
          <a:srcRect l="42748" t="0" r="0" b="0"/>
          <a:stretch/>
        </p:blipFill>
        <p:spPr>
          <a:xfrm>
            <a:off x="5572080" y="3286080"/>
            <a:ext cx="3132360" cy="31132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68000" y="4714920"/>
            <a:ext cx="435276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умов Э.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ь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ить оптимальные нормативы труда для экспертных отделов и отделений Бюро судебно-медицинской экспертизы субъекта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C731-2101-4A02-A0D8-B9B2EE9060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0012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сти анализ действующих законодательных нормативных актов, регулирующих порядок и способы нормирования труда в государственных бюджетных медицинских учреждения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аботать методику хронометража и расчета нормативов нагрузки для врачей - судебно-медицинских экспертов различных структурных подразделе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сти хронометражные исследования и рассчитать нормативы нагрузки для врачей - судебно-медицинских экспертов различных структурных подразделе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сти сопоставление полученных данных с результатами аналогичных исследований других государственных судебно-медицинских экспертных учрежд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529C-C6C3-4DB5-B5C0-DCED5BB267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риал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ктические экспертизы и ис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истические показатели работы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остные обязанности персона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ы хронометражных наблюд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B046-58EA-4E5E-8E6E-3D689D1C5E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ОПРЕДЕЛЕНИЯ НОРМАТИ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ствовались: письмо Минздрава СССР от 2 октября 1987 г.№02-14/82-14 «Методические рекомендации по нормированию труда медицинского персонала», подготовлено планово - финансовым управлением Минздрава СССР (Кищенко Л.П., Бояринцев Б.И., Житников Ю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тически-исследовательский метод - установление норм на основе непосредственного изучения процесса труда, расчленения его на составляющие элементы, измерения затрат рабочего времени по всем элементам выполняемых работ, составление оптимальной модели организации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тически - исследовательское нормирование характеризуется сложностью и трудоемкостью, оно связано с проведением множества наблюдений, опытов, замеров и расчетов, что значительно удорожает разработку научно - обоснованных норм труда. Метод требует больших затрат труда исследователя, но он позволяет выявлять и учитывать передовые методы и приемы труда, получать прогрессивные н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C8BC-D482-423B-8287-7AE42AD808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литический мето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и - исследовательский мето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и - расчетный мет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ммарный мет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ный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ческий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льный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4825-DD30-4927-902F-350724F63F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бор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а изучения объема деятельности медицинского персонала  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жает работу всех структурных подразделений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а состоит из 5 основных разде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справок  о плановых показателях для расчета штатов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атное расписание учреждения, ведомость замены дол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деятельности и организация работы медицинск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а амбулаторно - поликлинических подразделений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деятельности и организация работы медицинского персонала экспертных подразделений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деятельности медицинского персонала общеучрежденческих подразделений и вспомогательной служ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F197-7F76-4534-B0B5-476AAD3037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затрат рабочего в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огатель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ая деятель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с документаци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жебные разгово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е необходимое врем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агруженно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840B-D054-4917-BFAA-66A040162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21:06:30Z</dcterms:created>
  <dc:creator>Наумов Эдуард Сергеевич</dc:creator>
  <dc:description/>
  <dc:language>en-US</dc:language>
  <cp:lastModifiedBy>Наумов Э С</cp:lastModifiedBy>
  <dcterms:modified xsi:type="dcterms:W3CDTF">2009-05-21T04:54:22Z</dcterms:modified>
  <cp:revision>60</cp:revision>
  <dc:subject/>
  <dc:title>Инструмент оценки мотивационного профиля персонала</dc:title>
</cp:coreProperties>
</file>