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E092-28E0-42AA-B5EF-D04342559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ми рассчитаны и предложены для внедрения в работу Бюро СМЭ РФ нормы нагрузки для врачей судебно-медицинских экспертов различных структурных подразделений. Работа по нормированию труда не может оставаться  в стационарном состоянии: растет эффективность и скорость работы техники, оптимизируются процессы труда. Требуется так же тщательное исследование и нормирование труда среднего и младшего медицинского персонала Бюро СМЭ, что является темой наших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287-64CE-485C-A464-7CAAF3383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702-66F6-4626-980B-2797C4CFD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E9A-C6BF-4577-B201-DF0716A6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B1C-F169-4A38-BA6D-4294D8BB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9CC-C13E-4684-9F65-8D55B6CE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6C7-89EE-4CFB-A796-2C43BE39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174-AAC2-4870-8258-356919B6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9E8-F9BD-4BF1-B8F2-C7C2BEC5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D72-58C1-4A37-B7DF-AAC7141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2E0-5594-4031-A3D2-2A3DFB25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5D4-6F33-42A7-AC00-B3EF46F8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47A-A883-49D1-A422-D14A342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60D-57E5-4746-870F-8C915E4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6B3-5E06-4EAA-A08A-1B15F74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B2A-B942-474D-8F52-B92748B97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рование тру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Бюро СМЭ субъ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286080"/>
            <a:ext cx="43527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Наумов Э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Заславский Г.И.  д.м.н. Попов В.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Ломов В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Лобан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м.н. Амелехина О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5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435640" y="3141720"/>
            <a:ext cx="3132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деятельност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8760" y="1584360"/>
          <a:ext cx="8429400" cy="4541760"/>
        </p:xfrm>
        <a:graphic>
          <a:graphicData uri="http://schemas.openxmlformats.org/drawingml/2006/table">
            <a:tbl>
              <a:tblPr/>
              <a:tblGrid>
                <a:gridCol w="1285920"/>
                <a:gridCol w="5286240"/>
                <a:gridCol w="1857240"/>
              </a:tblGrid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сслед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представленной документацией (направлением, постановлением, картой вызова СМП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ие недостающей информации от следователя, СМП, участкового уполномоченного, дежурного УВД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10 минут, необходимость выполнения  данного вида деятельности возникает при 10% экспертиз, таким образом (10*%)/100=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медицинской документацией, выписка из медицинской карты стационарного больного, диктовка результат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 затраченное время – 25минут, необходимость выполнения  данного вида деятельности возникает при 13,5% экспертиз (количество трупов поступивших из медицинских  учреждений), таким образом (25*13,5%)/100=3,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сследования труп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объема экспертной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последовательности исследований, объема специальных исследований, проб и метод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E7F-245D-4C86-AB5E-AA5C34CCB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ая деятельнос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ка в морг и обратно (16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методики расчета, данный вид вспомогательной деятельности  для удобства расчета, был включен в основ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ая конференция,  что составляет 300 мин (рабочий д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а внутри учреждения 120 мин в месяц = 14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 вспомогательная деятельность в год составила 24900+300+1440=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664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C234-A77D-450D-BF20-3244BA699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помогательная деяте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500120"/>
          <a:ext cx="8572320" cy="4257720"/>
        </p:xfrm>
        <a:graphic>
          <a:graphicData uri="http://schemas.openxmlformats.org/drawingml/2006/table">
            <a:tbl>
              <a:tblPr/>
              <a:tblGrid>
                <a:gridCol w="1245960"/>
                <a:gridCol w="5348520"/>
                <a:gridCol w="197784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ренняя планерка в отдел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, подготов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оприятия лично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временные отды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научной лит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одевание уборка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900 мин/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932-E42D-4ECD-9393-936640717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определено среднее  количество рабочих дней и норма рабочего времени при 5-ти дневной рабочей неделе за последние три года (2006, 2007, 200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=В/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FA1-F9BA-46D0-937B-A8F420235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овые расчеты по отделу экспертизы тру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время, затраченное на выполнение 1 экспертизы составило 510, 73 мин  без учета дороги (в морг и обратно), с учетом времени дороги (16 мин) 526,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норма рабочего времени в год (в минутах) = 8929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спомогательная деятельность в год  (в минутах)= 266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ремя работы (чистое) в год в минутах 6265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Х-Y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9298 мин – 26640 мин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2658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реднее время затраченное на выполнение одной экспертизы (основная деятельность) 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26,7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 9 часов. 3 мин. 42 сек. (с учетом дороги в морг и обратно = 16 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оличество экспертиз выполненных в год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=В/Z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2658/526,73=118,9≈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19 эксперт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237-1DB4-44B2-9ECA-FB0F79F77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356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35 от 27.02.9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тивы по приказу МЗ Р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 131 от 22.04.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ы труп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 экспертных исследований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экспертизы потерпевших, обвиняемых и др. 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 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 экспертных об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20E-691A-4B6C-9343-F989DD279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571760"/>
          <a:ext cx="8229600" cy="4522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57320"/>
                <a:gridCol w="21574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сложных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экспертиз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экспертизы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экспертиз 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5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би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предме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экспертных исследований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ов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бъект - исследований в год (из расче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экспертное исслед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BD9-73A9-4981-BC2C-E89E74AA5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2143080"/>
                <a:gridCol w="1971720"/>
                <a:gridCol w="1814400"/>
                <a:gridCol w="230040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хим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анализов в год при отсутствии ХМС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ных анализов при наличии Х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криминалистическое отделение 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экспертиз, 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тных исследований в год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расчет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 менее 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ов на 1 исследова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385D-DBAC-412A-8C7D-611384B1B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0040" y="1571760"/>
          <a:ext cx="8229600" cy="380052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571400"/>
                <a:gridCol w="280044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кация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ых идентификационных экспертных исследований по установлению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гис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исследований или 28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ний (при взятии не менее 7 кусочков на одно исследование) ил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314-C1D2-47AD-9C70-8667DEF18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1143000"/>
          <a:ext cx="8229600" cy="548964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85960"/>
                <a:gridCol w="2585880"/>
              </a:tblGrid>
              <a:tr h="136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70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екулярно-генет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условных генот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ых генотипов в год при автоматизированном типирован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е автоматизированном типирова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нтгено-флюоресцентный спектраль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0 объект 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1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ение луче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88FF-96A3-446C-B0EB-3544A1F93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в большинстве учреждений современных научно-обоснованных нормативов нагрузки для врачей - судебно-медицинских экспе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й приказ МЗ РСФСР от 27.02.1991 г. №35 «О дальнейшем развитии и совершенствовании судебно-медицинской экспертизы в РСФСР», носит рекомендательный характер и не учитывает прогрессивных организационно-технических условий, произошедших в экспертных 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Бюро  во многих субъектах РФ происходит по остаточному принципу , без учета растущих объемов производства экспертиз и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ы управления здравоохранением, мотивируя наличием фактов  выполнения экспертами в пределах рабочего времени объемов, в несколько раз превышающих нормативы, установленные 35 - ым приказом, требуют  их пересмотра нагрузки в сторону  увели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971-7486-47B6-8722-7C7C13F45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1571760"/>
          <a:ext cx="8229600" cy="4287600"/>
        </p:xfrm>
        <a:graphic>
          <a:graphicData uri="http://schemas.openxmlformats.org/drawingml/2006/table">
            <a:tbl>
              <a:tblPr/>
              <a:tblGrid>
                <a:gridCol w="1857240"/>
                <a:gridCol w="2000520"/>
                <a:gridCol w="1785960"/>
                <a:gridCol w="2585880"/>
              </a:tblGrid>
              <a:tr h="13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е, городские и межрайонные отделения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350 «живых»; 60 экспертиз с самостоятельными гистологическими исследованиями и не более 350 «живы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 экспертиз без гистологии и не более 250 «живых». Гистологические исследования рассчитываются от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экспертных исследований трупов и не более 150 экспертных обследований «живых» лиц в год  в городских и районных отделениях СМЭ или 90 экспертных исследований трупов и не более 150 экспертных обследований «живых» лиц в год в межрайонных отделениях СМ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E12-22AE-4C6D-AF2C-64AC2C0DA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1357200"/>
          <a:ext cx="8300880" cy="5213520"/>
        </p:xfrm>
        <a:graphic>
          <a:graphicData uri="http://schemas.openxmlformats.org/drawingml/2006/table">
            <a:tbl>
              <a:tblPr/>
              <a:tblGrid>
                <a:gridCol w="1928520"/>
                <a:gridCol w="2000520"/>
                <a:gridCol w="1785960"/>
                <a:gridCol w="2585880"/>
              </a:tblGrid>
              <a:tr h="13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35 от 27.02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по приказу МЗ РФ N 131 от 22.04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нагру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ебно-цитологическое 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препарат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химическая лабора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авливается в зависимости от категори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 полных анали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полных анализов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3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иссионный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-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 объект - исследовани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B50-34D1-4B2B-8555-0B262DBF9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Рисунок2"/>
          <p:cNvPicPr/>
          <p:nvPr/>
        </p:nvPicPr>
        <p:blipFill>
          <a:blip r:embed="rId1">
            <a:lum bright="-18000"/>
          </a:blip>
          <a:srcRect l="42748" t="0" r="0" b="0"/>
          <a:stretch/>
        </p:blipFill>
        <p:spPr>
          <a:xfrm>
            <a:off x="5572080" y="3286080"/>
            <a:ext cx="3132360" cy="3113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4714920"/>
            <a:ext cx="43527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умов Э.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 оптимальные нормативы труда для экспертных отделов и отделений Бюро судебно-медицинской экспертизы субъект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DFB7-6CB5-4E8F-9F53-727321C0A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анализ действующих законодательных нормативных актов, регулирующих порядок и способы нормирования труда в государственных бюджетных медицинских учрежден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ать методику хронометража и расчета нормативов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хронометражные исследования и рассчитать нормативы нагрузки для врачей - судебно-медицинских экспертов различных структурных подраздел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сти сопоставление полученных данных с результатами аналогичных исследований других государственных судебно-медицинских экспертных уч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4A1-F2D9-43CE-BAD4-39D04621C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е экспертизы и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ие показатели работы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обязанности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ы хронометражных наблю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D85-AD8A-4B63-A1E3-22C2BCDB7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ОПРЕДЕЛЕНИЯ НОРМАТИ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вались: письмо Минздрава СССР от 2 октября 1987 г.№02-14/82-14 «Методические рекомендации по нормированию труда медицинского персонала», подготовлено планово - финансовым управлением Минздрава СССР (Кищенко Л.П., Бояринцев Б.И., Житников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-исследовательский метод - установление норм на основе непосредственного изучения процесса труда, расчленения его на составляющие элементы, измерения затрат рабочего времени по всем элементам выполняемых работ, составление оптимальной модели организаци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ое нормирование характеризуется сложностью и трудоемкостью, оно связано с проведением множества наблюдений, опытов, замеров и расчетов, что значительно удорожает разработку научно - обоснованных норм труда. Метод требует больших затрат труда исследователя, но он позволяет выявлять и учитывать передовые методы и приемы труда, получать прогрессивны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1E8-28DC-4A90-BF08-8C0E08990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ческий мет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исследовательский мет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и - расчетный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ммар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3108-B9E2-4211-9CCA-D569FED7F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изучения объема деятельности медицинского персонала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ет работу всех структур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состоит из 5 основных разде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правок  о плановых показателях для расчета штатов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тное расписание учреждения, ведомость замены дол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а амбулаторно - поликлинически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и организация работы медицинского персонала экспертных подразделений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деятельности медицинского персонала общеучрежденческих подразделений и вспомогательн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A96-4BF1-4E28-8CA9-6F8B89F35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атрат рабоче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ог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окументац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ые разгов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е необходим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гружен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627-317D-4A2A-882B-D0F31EE2E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06:30Z</dcterms:created>
  <dc:creator>Наумов Эдуард Сергеевич</dc:creator>
  <dc:description/>
  <dc:language>en-US</dc:language>
  <cp:lastModifiedBy>Наумов Э С</cp:lastModifiedBy>
  <dcterms:modified xsi:type="dcterms:W3CDTF">2009-05-21T04:54:22Z</dcterms:modified>
  <cp:revision>60</cp:revision>
  <dc:subject/>
  <dc:title>Инструмент оценки мотивационного профиля персонала</dc:title>
</cp:coreProperties>
</file>