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ED3A-A6A3-4E24-818B-B66B4C9B5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3B8-4364-48E7-8D45-770D2AF72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E19-15ED-4094-868F-7BBAF572B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Имея большой опыт, мы можем поделиться своими достижениями по пути решения поставленных  задач и обозначить основ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Кадровый вопрос в масштабе страны не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С учётом громадного опыта работы предлагаем к рассмотрению типовой перечень оборудования, который может быть рекомендован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еобходимо возобновить методическое и информационное обеспечение материа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успешной работы судебно-химической службы – требуется соответствующее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орма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ести изменение коэфициентов перерасчёта некоторых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удебно-химических исследований на полные анализы (условные единицы), утерждённ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азом  № 407 от 10.12.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орму оставить прежне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BD7F-FC2A-4FE6-9970-BED593D0F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  В настоящее время в связи с появлением  Приказа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 возникла не ясность какие специалисты могут работать в судебно-химических отделениях Бюро СМЭ на должности врача судебно-медицинского эксперта. Этот приказ лишает возможности работающим сертифицированным врачам судебно-медицинским экспертам, имеющим базовую специальность, полученную в вузе, «фармация» или «химия», получать и подтверждать квалификационную категорию, соответствующую оплату труда и предоставленные врачам судебно-медицинским экспертам льготы. Это приведет к оттоку подготовленных и квалифицированных кадров, а также к не возможности приёма на работу молодых кадров, имеющих указанные специа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C5B-40DE-407A-8B5D-6C94589FB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 В связи с этим, мы считаем необходимым обратиться с просьбой  о внесени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. 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лучае если в ближайшее время этот вопрос не будет решен положительно, судебно-химические отделения бюро лишатся  профессионально подготовленных квалифицированных кадров, владеющих современными инструментальными методами, имеющими фундаментальные познания в области токсикологической и аналит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780-4201-4CEB-B04E-E774ECCD8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1E6-78E8-452D-B7C6-166FE5B10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9BC2-AE18-4B4D-9550-D9024019B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ть типовой перечень оборудования и расходных материалов, рекомендованных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чень * необходимого оборудования  для судебно-химических отделов, составленный на основании опыта работы судебно-химической службы ГУЗ МО Бюро СМЭ МЗ МО представлен ниж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количество  зависит от объёма выполняемой рабо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31F-7B8B-4947-A117-001CBA573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 Перед врачами судебно-медицинскими экспертами судебно-химических отделов ставятся  вопросы не только произвести обнаружение, идентификацию, количественное определение токсических веществ в трупном материале, но и определить факт употребления и степень влияния различных токсических веществ на поведение человека при совершении преступлений и правонарушений или  жертв преступлений. Важным вопросом является интерпретация аналитических результатов - правильно интерпретировать аналитические результаты, т. е.  отличить терапевтическую, токсическую и летальную  концентрацию, охарактеризовать фармакологическое и токсикологическое действие на организм – также непростая задача специалистов судебно-химического отд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CE9-C279-4911-B137-C4F6A11D8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1. В настоящее время для учета экспертной работы  врачи СМЭ СХО руководствуются коэффициентами пересчета различных видов  судебно-химических исследований  на полные анализы (условные единицы) в соответствии с Приказом МЗ РФ  № 407 от 10.12.96 г «О введении в практику  правил производства экспертиз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C79-A4D0-47EF-B80F-07F7791E5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2 – 24.  Коэффициенты  были установлены на основании хронометража, но система учета  излишне усложнена из-за обилия различных видов мелки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699F-B321-4CAC-BE73-9F9626328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26BA-A506-456D-8F0A-467539E11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19C-0C02-420D-B6B8-B458A881D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. Мы считаем, что ее можно упростить, усреднив отдельные откло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ие новых методов инструментального анализа внесли изменения в методологию, в том числе и в пробоподготов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B49-D2AB-4719-8011-ACBFC293B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CB6-90EB-4FD3-A367-FFB6D8940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. С учетом этих изменений мы сочли возможным предложить на обсуждение новую систему коэффициентов перерасчёта судебно-химических исследований на полные анали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39C-5F68-4F43-B5D6-147D2767C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. Упростив систему подсчёта и уменьшив коэффициенты отдельных видов анализа,  при сохранении нормы - 5 полных анализов в месяц и 55 полных анализов в год на ставку врача судебно-медицинского эксперта судебно-химического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265E-BD0B-4B1D-95E8-97862688D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. Необходимо возобновить информационное обеспечение методическими и информационными материалами с учетом межведомственных экспертных служ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 цел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и и внедрения в практику методов исследования биологических проб на токсикологически важные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3C3-8D0F-401D-B31F-4834453B3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ультаты экспертиз и исследований должны быть достовер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. 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147-B268-487D-914C-4AEA7A0D9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№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0. Финансировани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дополнительном финансировании путем включения Бюро СМЭ в целевые Федеральные и област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, утвердив табель оборудования, может быть появятся дополнительные возможности произвести необходимое финансирование и оснащение СХО, путём участия в Программах, например, по борьбе с преступностью, что позволит производить экспертизы и исследования на высоком уровне, улучшив качество и сократив сроки 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D7F-FB47-48F4-945A-42104B113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решения поставленных задач в таком крупном регионе, каким является Московская область, создана централизованная структура судебно-химического отдела, состоящая из центрального СХО и 14 МРСХ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E433-310D-4909-9420-BF29A4975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Производятся судебно-химические экспертизы и исследования по заданию врачей СМЭ районных отделений Бюро, а также по направлениям врачей лечебно-профилактических учреждений, производящих 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ГИБДД, УФСК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7DA-4BB8-4467-8B63-7C8B62ACA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Судебно-химический отдел ГУЗ МО Бюро судебно-медицинской экспертизы МЗ МО  - одна из крупнейших лабораторий страны, производящая исследования биологического материала как по направлениям врачей СМЭ, так и по направлениям врачей ЛПУ. В  2008 году произведено 63493 экспертизы (исследования) из них только 57% составили экспертизы и исследования трупного матери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1AB-0277-4078-A245-E604644D9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Для выполнение большого объёма экспертиз и исследований с хорошими сроками проделана огромная работ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2EF9-4EB6-44DD-B7CD-8C3DB002A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Среди которых - метод газовой хроматографии с масс-селективным детектором  (ГХ-МС), который  идеально удовлетворяет требованиям по селективности и воспроизводимости и давно является золотым стандартом  в судебной и токсикологической химии.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Использование ГХ-МС для скрининга, подтверждения и количественного определения наркотических и лекарственных средств в биологических жидкостях удовлетворяет требованиям по чувствительности, селективности и специфичности и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обеспечивает надёжную идентификацию обнаруженного аналита, а не скорость проведения анализа!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Можно провести серийное исследование биообъектов на наличие лекарственных веществ методом ТСХ – и не найти ничего – но обеспечить скорость, а проведя исследование трупного биообъекта найти несколько веществ, а потом ещё продолжать исследование с целью количественного определения и оценивать аналитическ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9. Что за собой влечёт внедрение современных высокотехнологичных методов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980-7A46-49BB-A07F-14B11AD82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202-35D6-4F7D-8155-37683EF4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9B5-E3DC-4A8A-804D-55138CD1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A31-FACA-49EF-962F-F6F48570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E84-FED9-4713-A0ED-35BD44C5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A46-6241-49FE-9BD6-8B73455F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3F1-0AEE-4A73-B993-3274496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188-8895-4F97-B193-57FBAAF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0C8-BF4C-48F9-97D1-CA9E9930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242-4FC9-4380-91D0-F792576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589-2092-41C0-B9A6-25E3A69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E6D-7AEC-43D1-AC58-3120361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215-6F39-482E-9F25-F6BF6B2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1B6-8E8C-4D92-9E43-3D62E631F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ТУАЛЬНЫЕ ПРОБЛЕМЫ СУДЕБНО-ХИМИЧЕСКОЙ СЛУЖБЫ в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аснова Р.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упина Н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о-химически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З МО Бюро СМЭ МЗ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ик Бюро - Заслуженный врач РФ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С. Ривен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F803-8F1A-486B-B620-0457DE2F4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ктуальные проблем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ров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ель обору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и методическ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A021-161E-4E03-9009-9770E81D7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каз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B85-AE06-4CAA-957B-F59BD77F1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A46B-5B67-4EB1-A479-204379C70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786-DB10-43B2-B1AA-505C47D6B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9D7-8DCB-4E93-9266-FFCAF54EE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абель оборудования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999800"/>
            <a:ext cx="871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типовой табель оборудования и расходных материалов, рекомендованных для оснащения судебно-химически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DDAC-3890-49C5-BF45-609CEB76E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 жидкостной хроматографии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TRIP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 масс-спектрометрически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наркотических и сильнодействующих лекарственных средств на базе газов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масс-селективным детектором АТ5975С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на базе жидкостн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200 с диодно-матричны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азотно-фосфорными детекторами детектором с устройством автоматического ввода пробы на 100 образцов с комплектом расходных материалов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электронно-захватными детекторами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дуктивно-связанный пламенно-эмиссионный спектрометр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S Agil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наружение и количественное определение металлов (элементов периодической системы) в биообъектах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603-49E3-4D34-808C-0B73DE137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-оксиме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82 с комплектом расходных материалов (анализатор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карбоксигемоглобина в кро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детектором   по теплопроводности (ДТП) 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пламенно-ионизационными детекторами   (ПИД) с парофазным пробоотборником не менее чем на 40 виал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, летучих веществ и технических жидкостей в биологических 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иммуно-ферментных реакций автоматический -  Микропланшетный фотометр типа 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ho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020»  с возможностью подключения к компьютеру и  с набором рекативов для анализа наркотических и других  психоактивных веществ в моче методом  И Ф А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втоматизированный флюоресцентно-поляризационный анализатор (ПФИА) моч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bott Axsym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набором рекативов для анализа наркотических и других  психоактивных веществ в моче методом  П Ф И А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мо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бор оборудования и расходных материалов для проведения исследований методом тонкослойной хрома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ектрофотометр автоматически регистрирующий в УФ- и видим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мостат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nder B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3 ( до  100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 и встряхивтелем для колб емк. 50 и 100 м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ulabo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  TW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2 (объём 4,5л 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 веществ в био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горизон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HS501 300 коле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орби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K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60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 колеб/мин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1C39-7B22-4715-8B4B-B09F69D8B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M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500 об/мин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Vibrax VX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насад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00 о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ртекс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Lab Danc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оцедура дерив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Aqua Vaw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9375 ёмк. 2л 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ёмк. 9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тр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-21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ecker )/ Hanna Instrument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иготовление буфер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4х50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12х15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ультифункциональная настольная центрифуга с индукционным мотором и микропроцессорным управлением “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ouan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” до 14500 об/мин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ppendorf Centrifug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5425 24х1,5 мл, 9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Micro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7  24х1,5 мл, 9000 об/м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с охлаждение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Cent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8х50 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Scintif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х50 мл, 4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131-73EA-4CC2-8191-21C5CAD14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78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ый концентрато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2002 с регулированием вакуум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центратор экстракто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ierce Reacti Therm III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нагревательным модулем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cti Va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лект дозаторов (1-канальных / постоянного и переменного объёма (10-100 мкл, 500 мкл, 100-1000 мкл, 1-5 мл, 10 мл), 8-канальных (10-100 мкл)) и диспенсеров с расходными материалам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мельчитель тканей (блендер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аналитические 0,1 мг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ление стандартных и калибровоч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1 мг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HAUS Adventurer A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130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0,1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и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иониз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доструйный нас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ая камера 0-4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розильная камера -18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ики лабораторные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реактивов и стандарт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химических исследований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лабораторных исследований с подводкой электр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-мойки с вытяжной сист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74FF-4AC2-4C68-99B3-1718D6545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, которые ставятся перед врачами СМЭ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8713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сти обнаружение, идентификацию, количественное определение токсических веществ в трупном матери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факт употребления и степень влияния различных токсических веществ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дение человека при совершении преступлений и правонарушени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ртв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аналитически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ть терапевтическую, токсическую, летальную концент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арактеризовать фармакологическое и токсическое действие на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7A2-C308-4CC3-B4BB-C0794135C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тяжные шкафы с подводкой электричества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азовые баллоны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воздух) и газовые лини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водород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азот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и пробоподготовки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рессор воздуха с ресивером (накопителем) на 25 л (безмаслянный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 сушильный – стерилизационный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ботка по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ая система для твёрдо-фазной экстракции (ТФЭ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кстракционные картриджи (патроны¸ колонки) для проведения ТФЭ для различных групп наркотических и лекарственных веществ -- 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ктерицидная лампа типа ОБН-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точники бесперебойного питани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безопасного режима отключения 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диционеры воздуха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условий для работоспособности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пировальный аппа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еллажи для хранения архива и ре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ы металлические для хранения реакти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ф для хранения наркотических и сильнодействующ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ВС и АПК для статистической обработки данных лабораторн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7B5-4A8A-4529-9223-5DFDBB42C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988040" cy="53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эффициенты перерасчета судебно-химических исследований на полные анализы (условные единицы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приказу № 407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10.12.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4EF8-2746-47E5-BDAE-9E314005D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333360"/>
          <a:ext cx="8640720" cy="6264360"/>
        </p:xfrm>
        <a:graphic>
          <a:graphicData uri="http://schemas.openxmlformats.org/drawingml/2006/table">
            <a:tbl>
              <a:tblPr/>
              <a:tblGrid>
                <a:gridCol w="5256000"/>
                <a:gridCol w="655560"/>
                <a:gridCol w="606600"/>
                <a:gridCol w="682560"/>
                <a:gridCol w="1440000"/>
              </a:tblGrid>
              <a:tr h="587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вая хроматография (ДТ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1. Кров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2  Мо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3 Мыш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4 Дистилл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5 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 Окись угле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вая хроматография (ДИ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Лет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 Лек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вая хроматография (ДЭ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F3BE-B2F6-44F3-82F6-F50E9E612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24000" y="189000"/>
          <a:ext cx="8640720" cy="639756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1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Газовая хроматография (ТИ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ЭЖ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Хромато -масс спектр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Перег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Суррогаты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 Синиль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Ф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Изолирование лекарствен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 Ацетонитри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Другими органическ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2D86-7B89-4E1A-AEF9-9F7D56B0F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24000" y="189000"/>
          <a:ext cx="8640720" cy="625608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0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золирование наркотиков из био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Гидро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 Внутренние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 И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золирование пестицидов  органическими раствор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1 Эфи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 Гекса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3 Бензо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 Друг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Спектрофот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 УФ- область и вид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 ИК-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спектральная характери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FFA-FDE9-4F35-8DCC-D33B442D4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115920"/>
          <a:ext cx="8640720" cy="656424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49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Тонкослойная хро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 Без элю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 Элю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пласт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 Микрокристал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 Окраш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реа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Де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Минер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Озо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Ди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Спектрофотометрическое опреде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Имунно -ферментный 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Прочие                                                                (по затрате времени) 1 п.а. = 25,5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D98A-6AD3-45BD-BFAA-E8E9BB573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2E8-E412-4750-B14B-AB5E580C8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884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агаемые к рассмотрению коэффициенты перерасчета судебно-химических исследований на полные анализы (условные единицы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4E54-7AD2-4D8A-8098-E178693A1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95280" y="189000"/>
          <a:ext cx="8518680" cy="6703920"/>
        </p:xfrm>
        <a:graphic>
          <a:graphicData uri="http://schemas.openxmlformats.org/drawingml/2006/table">
            <a:tbl>
              <a:tblPr/>
              <a:tblGrid>
                <a:gridCol w="6334200"/>
                <a:gridCol w="218448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ы на 1 объек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хроматографическоое исследование этилового спи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жидк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хроматографическое исследование летучих веществ с Д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хроматографическое исследование лекарственных и наркотических веществ с пробоподготовкой (ВЭЖХ, ЭЗД, ТИД, ХМ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сследование летучих веществ методом перегонки с водяным п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ммунный метод на одну группу наркотических и лекарственн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сследование наркотических и лекарственных вещест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Исследование пестицидо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пектрофотометрическое исследование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сследование на ртуть с пробоподготовкой (деструк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Исследование на соли тяжелых металлов с пробоподготовкой (минерализа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сследование кислот, щелочей с пробоподготовкой (диали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Определение карбоксигемогло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Прочие                                                                                            (по затрате времени) 1 п.а.= 25 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A47-8347-41F4-A280-43EF31005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одология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 методическими и информационными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и внедрение в практику методов исследования биологических проб на токсикологически важ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E0E2-FA6F-47B3-88C7-619BD30F7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экспертиз и исследований должны быть достоверными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35720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DB7-C4EB-4466-B755-7AE607798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инансировани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871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финансирование путем включения Бюро СМЭ в целевые Федеральные и  региональ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0881-1FAA-42E7-A77F-CB2FD8887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-167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72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исследований в судебно-химическом отд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З МО Бюро судебно-медицинской 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тральный судебно-химический  отдел  (ЦСХО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гие спирты, растворители, наркотические,  психотропные, лекарственные и другие токсические 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йонные  судебно-химические отделения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отдел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е спирты, растворите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предварительный анализ  на наркотические и психотроп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одтверждением полученных положительных результатов в ЦС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кресе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ш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О. Зу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о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Протв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я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рь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Мытищ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митров                                       Можай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ль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Щёлк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Электрост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1523880" y="41911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2666880" y="426672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143000" y="4419720"/>
            <a:ext cx="17524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95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3505320" y="4343040"/>
            <a:ext cx="53316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5181120" y="434304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14640" y="44193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 flipV="1">
            <a:off x="640044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5486040" y="441936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4800600" y="43434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107-2FF3-4A3E-86EF-30543E9DB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ебно-химический отдел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УЗ МО Бюро СМЭ МЗ МО производит экспертизы и исследова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78596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СМЭ районны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МВД, ГИБДД, УФС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ка при острых от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39BB-69BC-4B1C-B965-6D04BCF71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329-D5C4-4EE8-AB61-07C5B7E8A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м работы судебно-химического отдела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УЗ МО  Бюро СМЭ МЗ М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468360" y="1700280"/>
          <a:ext cx="403848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40384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284720" y="4076640"/>
          <a:ext cx="4397400" cy="20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76640"/>
                    <a:ext cx="43974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5072040" y="1571760"/>
          <a:ext cx="3908520" cy="24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2040" y="1571760"/>
                    <a:ext cx="39085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выполнение большого объёма экспертиз и исследований с хорошими сроками проделана огромная работ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5714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5B1-1410-4EE2-83FD-38ED8CF5A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0DD-7D63-45DF-ACB7-4FCB8FBB3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метода ГХ-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разделен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оизводим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орость-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иентный режим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ёж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стабильные, низко- и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-полярные ан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тор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-чувствительный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за собой влечёт внедрение инструментальных методо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FC7F-C307-4248-92F6-DAB47E722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0:29:21Z</dcterms:created>
  <dc:creator>--</dc:creator>
  <dc:description/>
  <dc:language>en-US</dc:language>
  <cp:lastModifiedBy>Олег Шемякин</cp:lastModifiedBy>
  <dcterms:modified xsi:type="dcterms:W3CDTF">2009-05-22T06:01:09Z</dcterms:modified>
  <cp:revision>79</cp:revision>
  <dc:subject/>
  <dc:title>Коэффициенты перерасчета судебно-химических исследований на полные анализы (условные единицы)</dc:title>
</cp:coreProperties>
</file>