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49D5-5FBC-4E94-A200-B39474301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891C-623D-42EF-AC0F-DDC1F3E09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9721-D808-4CDE-A4DB-F1FFEBB7A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Имея большой опыт, мы можем поделиться своими достижениями по пути решения поставленных  задач и обозначить основ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Кадровый вопрос в масштабе страны не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С учётом громадного опыта работы предлагаем к рассмотрению типовой перечень оборудования, который может быть рекомендован для оснащения судебно-химических отделений Бю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еобходимо возобновить методическое и информационное обеспечение материа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Для успешной работы судебно-химической службы – требуется соответствующее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Норма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ести изменение коэфициентов перерасчёта некоторых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удебно-химических исследований на полные анализы (условные единицы), утерждённ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азом  № 407 от 10.12.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норму оставить прежне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B536-31ED-4B0E-B0A8-B6626FF66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.  В настоящее время в связи с появлением  Приказа № 553 от 20 августа 2007 года «О внесении изменений в приказ Министерства здравоохранения Российской Федерации  от 27 августа 1999 года № 337 «О номенклатуре специальностей в учреждениях здравоохранения Российской Федерации» возникла не ясность какие специалисты могут работать в судебно-химических отделениях Бюро СМЭ на должности врача судебно-медицинского эксперта. Этот приказ лишает возможности работающим сертифицированным врачам судебно-медицинским экспертам, имеющим базовую специальность, полученную в вузе, «фармация» или «химия», получать и подтверждать квалификационную категорию, соответствующую оплату труда и предоставленные врачам судебно-медицинским экспертам льготы. Это приведет к оттоку подготовленных и квалифицированных кадров, а также к не возможности приёма на работу молодых кадров, имеющих указанные специа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BF05-5DA1-40C1-A777-2085F7845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. В связи с этим, мы считаем необходимым обратиться с просьбой  о внесении в перечень специалистов, имеющих право работать на указанных выше должностях, специалистов, имеющих высшее базовое фармацевтическое и базовое химическое образование. Приравнять их  в правах, обязанностях, оплате труда, предоставлении тех же льгот и возможности получения квалификационной категории к врачам, занимающим должности «врач судебно-медицинский экспер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лучае если в ближайшее время этот вопрос не будет решен положительно, судебно-химические отделения бюро лишатся  профессионально подготовленных квалифицированных кадров, владеющих современными инструментальными методами, имеющими фундаментальные познания в области токсикологической и аналит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6A22-3CC1-4222-B8A0-3F1C351DE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прежнее название «врач судебно-медицинский эксперт» в соответствии с приказом  МЗ СССР № 418  от 13 июля 1989 года  и сохранить допуск к этой должности лиц имеющих высшее базовое фармацевтическое и базовое химическое обра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устить к занятию должности «лаборант» судебно-химического отделения специалистов со средним фармацевтическим и химическим образованием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614D-D2F7-4E65-84DA-3E7482E3E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аботать систему подготовки кадров и повышения квалификации по унифицированным программам, удовлетворяющим международному стандар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настоящее время не проводится первичная подготовка на базе учреждений, имеющих лицензию на образовательную дея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рабочих местах в Бюро подготовка запрещена, виду отсутствия лицензии на образовательную дея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им образом, отсутствует возможность пополнения кадрами молодых специалистов без нарушения кадровых треб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8093-498D-418A-9B6C-6DD57D460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ить типовой перечень оборудования и расходных материалов, рекомендованных для оснащения судебно-химических отделений Бю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чень * необходимого оборудования  для судебно-химических отделов, составленный на основании опыта работы судебно-химической службы ГУЗ МО Бюро СМЭ МЗ МО представлен ниж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количество  зависит от объёма выполняемой рабо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8836-E5AB-49F4-B7E3-FF8A206FF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 Перед врачами судебно-медицинскими экспертами судебно-химических отделов ставятся  вопросы не только произвести обнаружение, идентификацию, количественное определение токсических веществ в трупном материале, но и определить факт употребления и степень влияния различных токсических веществ на поведение человека при совершении преступлений и правонарушений или  жертв преступлений. Важным вопросом является интерпретация аналитических результатов - правильно интерпретировать аналитические результаты, т. е.  отличить терапевтическую, токсическую и летальную  концентрацию, охарактеризовать фармакологическое и токсикологическое действие на организм – также непростая задача специалистов судебно-химического отд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1EE1-F296-43B8-93AC-BC021DD3FD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1. В настоящее время для учета экспертной работы  врачи СМЭ СХО руководствуются коэффициентами пересчета различных видов  судебно-химических исследований  на полные анализы (условные единицы) в соответствии с Приказом МЗ РФ  № 407 от 10.12.96 г «О введении в практику  правил производства экспертиз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52D0-881D-4AFE-8760-C4F0E5370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2 – 24.  Коэффициенты  были установлены на основании хронометража, но система учета  излишне усложнена из-за обилия различных видов мелки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EB5-E8B0-402D-B0A0-0C92196D5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9662-42BB-44E1-B3B2-13B0D5645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CE28-24F1-4C4A-9693-6ABC3C7A8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5. Мы считаем, что ее можно упростить, усреднив отдельные откло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ие новых методов инструментального анализа внесли изменения в методологию, в том числе и в пробоподготов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9A0D-C29C-4FAA-AFA3-DD27DA933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1 ставку в месяц = 5 п.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п.а.  =  2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ду 365 дней  –  52 воскресен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дней – праз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01 рабочий д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01/12  =  25 рабочих дне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,0 ставка / 1 рабочий день – 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5 часов в месяц на 1,0 став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BAD0-BBC8-4711-951D-C9055CE38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. С учетом этих изменений мы сочли возможным предложить на обсуждение новую систему коэффициентов перерасчёта судебно-химических исследований на полные анали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E310-7E3A-4602-B6C3-A914B8FD7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. Упростив систему подсчёта и уменьшив коэффициенты отдельных видов анализа,  при сохранении нормы - 5 полных анализов в месяц и 55 полных анализов в год на ставку врача судебно-медицинского эксперта судебно-химического от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A79C-68BC-4186-947C-A772CA847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9. Необходимо возобновить информационное обеспечение методическими и информационными материалами с учетом межведомственных экспертных служ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стие СХО Бюро в НИ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 цел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отки и внедрения в практику методов исследования биологических проб на токсикологически важные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DD34-0809-4B20-AECC-9BE694B9E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Результаты экспертиз и исследований должны быть достовер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ка пробы  должна удовлетворять цели исследования и обеспечивать проведение дальнейшего анализа с достоверным результатом. Применение не менее двух методов, основанных на  различных физико-химических принципах, снижают возможности ошибок при проведении анализа на различные группы наркотических, психотропных и других токсически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-положительные и ложно-отрицательные результаты имеют крайне неблагоприятные последствия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DCBE-A117-48CD-8B04-B02A6CB0D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№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0. Финансирование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-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необходимая предпосылка развития и успешного функционирования СХ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в дополнительном финансировании путем включения Бюро СМЭ в целевые Федеральные и областные программы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я и укрепления материально-технической б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я высокотехнологичного современного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ных материалов и реа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и и обучен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участие Администрации районов в организации районных отделений, а также в улучшении условий работы  действующих РС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о. , утвердив табель оборудования, может быть появятся дополнительные возможности произвести необходимое финансирование и оснащение СХО, путём участия в Программах, например, по борьбе с преступностью, что позволит производить экспертизы и исследования на высоком уровне, улучшив качество и сократив сроки 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88BE-AC51-4B62-BB5C-443099D9F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Для решения поставленных задач в таком крупном регионе, каким является Московская область, создана централизованная структура судебно-химического отдела, состоящая из центрального СХО и 14 МРСХ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8485-0AE3-4C76-A6E9-267414BF92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Производятся судебно-химические экспертизы и исследования по заданию врачей СМЭ районных отделений Бюро, а также по направлениям врачей лечебно-профилактических учреждений, производящих освидетельствование на состояние наркотического опьянения (наркологических диспансеров и кабинетов, отделений реанимации и интенсивной терапии, приемных отделений больниц), и по направлениям и постановлениям правоохранительных органов, в том числе, ГИБДД, УФСК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FDE7-14CF-451F-AFC5-DDF0BDCD41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Судебно-химический отдел ГУЗ МО Бюро судебно-медицинской экспертизы МЗ МО  - одна из крупнейших лабораторий страны, производящая исследования биологического материала как по направлениям врачей СМЭ, так и по направлениям врачей ЛПУ. В  2008 году произведено 63493 экспертизы (исследования) из них только 57% составили экспертизы и исследования трупного матери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72BE-1243-4611-909B-F8B0C7D62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Для выполнение большого объёма экспертиз и исследований с хорошими сроками проделана огромная работ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ересмотрен подход к проведению анализа  и организации работы сотрудников от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а специализация по мет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озможности, обновлено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дрены новые высокочувствительные инструментальн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62AF-9506-47DE-8A28-2767E359EE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Среди которых - метод газовой хроматографии с масс-селективным детектором  (ГХ-МС), который  идеально удовлетворяет требованиям по селективности и воспроизводимости и давно является золотым стандартом  в судебной и токсикологической химии.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Использование ГХ-МС для скрининга, подтверждения и количественного определения наркотических и лекарственных средств в биологических жидкостях удовлетворяет требованиям по чувствительности, селективности и специфичности и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обеспечивает надёжную идентификацию обнаруженного аналита, а не скорость проведения анализа!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Можно провести серийное исследование биообъектов на наличие лекарственных веществ методом ТСХ – и не найти ничего – но обеспечить скорость, а проведя исследование трупного биообъекта найти несколько веществ, а потом ещё продолжать исследование с целью количественного определения и оценивать аналитическ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9. Что за собой влечёт внедрение современных высокотехнологичных методов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зработки новых методик пробоподготовки и индивидуальных проб для каждого метода исследования. Подбор растворителей и условий экстракции с учетом различных свойств токсикантов и возможностей детекторов – сложная задача для проведения скрининга на неизвестное веще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сокая чувствительность позволяет использовать  пробы малой размерности и требует проведения высокой степени очистки от соэкстрактивных вещест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своение и внедрение методик анализа на различные группы веществ и их метаболитов  с учетом чувствительности оборудования, которым располагает то или иное отделение требует колоссальных усилий времени и 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готовка высокопрофессиональных специалистов, способных овладеть и бесперебойно работать на высокотехнологичном оборудовании особенно актуальна в настоящее врем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C0D-1FDF-4CBD-A1FD-6962352792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FF8-BD48-4FA8-8C00-2114D1FA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CBE-4A3C-4380-B0C6-67B4B3BE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EAB-FCCC-47F2-9CFB-62E4CC23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4C1-007B-425F-9DBF-79B13511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872-0072-4162-A817-5CDAB092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04D-D277-4A9D-8280-CF0CB350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5C4-9A80-43DB-B5ED-5C56E1E1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78C-D1F3-40CB-9E64-E5E8AB82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62D-E49A-4278-BA55-9A6FAE7D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8DB-8139-4EC7-BF91-2D39E10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E6F-A24F-4174-AA3C-5D00B1C4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F73-54EE-4324-A85A-4EE414E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6D2-33B8-4358-884D-8CFDB64D0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30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ТУАЛЬНЫЕ ПРОБЛЕМЫ СУДЕБНО-ХИМИЧЕСКОЙ СЛУЖБЫ в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раснова Р.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рупина Н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ебно-химически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З МО Бюро СМЭ МЗ 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ик Бюро - Заслуженный врач РФ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С. Ривен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9C4E-2384-4DE4-893F-4744CB693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Актуальные проблемы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дров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ель обору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и методическ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44B9-A869-46ED-B701-C01EBD33D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каз № 553 от 20 августа 2007 года «О внесении изменений в приказ Министерства здравоохранения Российской Федерации  от 27 августа 1999 года № 337 «О номенклатуре специальностей в учреждениях здравоохранения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C4DB-2D3E-432E-994C-42F2C3EAB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сти в перечень специалистов, имеющих право работать на указанных выше должностях, специалистов, имеющих высшее базовое фармацевтическое и базовое химическ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авнять их  в правах, обязанностях, оплате труда, предоставлении тех же льгот и возможности получения квалификационной категории к врачам, занимающим должности «врач судебно-медицинский экспер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64C7-F708-4D01-8E93-C34005F19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 прежнее название «врач судебно-медицинский эксперт» в соответствии с приказом  МЗ СССР № 418  от 13 июля 1989 года  и сохранить допуск к этой должности лиц имеющих высшее базовое фармацевтическое и базовое химическое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тить к занятию должности «лаборант» судебно-химического отделения специалистов со средним фармацевтическим и химическим образовани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B419-8284-40B2-BB7E-64422326B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дровый вопрос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44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ть систему подготовки кадров и повышения квалификации по унифицированным программам, удовлетворяющим международному стандар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не проводится первичная подготовка на базе учреждений, имеющих лицензию на образо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абочих местах в Бюро подготовка запрещена, виду отсутствия лицензии на образо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отсутствует возможность пополнения кадрами молодых специалистов без нарушения кадровых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EE65-A8B2-4135-BB8B-4E02F5968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абель оборудования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999800"/>
            <a:ext cx="87138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типовой табель оборудования и расходных материалов, рекомендованных для оснащения судебно-химических отделений Бю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F610-E1FE-41A8-8A55-55853330B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стема жидкостной хроматографии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TRIP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U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 масс-спектрометрическим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наркотических средств и других психоактивных веществ.  Терапевтический мониторинг лекарственных препаратов 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наркотических и сильнодействующих лекарственных средств на базе газового хроматографа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масс-селективным детектором АТ5975С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наркотических средств и других психоактивных веществ. Терапевтический мониторинг лекарственных препаратов 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на базе жидкостного хроматографа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200 с диодно-матричным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 веществ в биопроб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и ядохимикатов на базе хроматографа газового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двумя азотно-фосфорными детекторами детектором с устройством автоматического ввода пробы на 100 образцов с комплектом расходных материалов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веществ в биопроб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сильнодействующих лекарственных средств и ядохимикатов на базе хроматографа газового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ilen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89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двумя электронно-захватными детекторами детектором с устройством автоматического ввода пробы на 100 образцов 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ининг и количественное определение лекарственных веществ в биопроб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дуктивно-связанный пламенно-эмиссионный спектрометр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C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S Agil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комплектом расходных материалов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наружение и количественное определение металлов (элементов периодической системы) в биообъектах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45A3-CAC7-422E-B1FB-595AD4EB9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-оксимет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682 с комплектом расходных материалов (анализатор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карбоксигемоглобина в кро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ппаратно-программный комплекс на базе газового хроматографа с детектором   по теплопроводности (ДТП) 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алкоголя в биологических 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ппаратно-программный комплекс на базе газового хроматографа с пламенно-ионизационными детекторами   (ПИД) с парофазным пробоотборником не менее чем на 40 виал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алкоголя, летучих веществ и технических жидкостей в биологических 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нализатор иммуно-ферментных реакций автоматический -  Микропланшетный фотометр типа «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tho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020»  с возможностью подключения к компьютеру и  с набором рекативов для анализа наркотических и других  психоактивных веществ в моче методом  И Ф А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варительный анализ наркотических и других  психоактивных веществ в биологических 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втоматизированный флюоресцентно-поляризационный анализатор (ПФИА) моч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bott Axsym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с набором рекативов для анализа наркотических и других  психоактивных веществ в моче методом  П Ф И А -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варительный анализ наркотических и других  психоактивных веществ в мо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бор оборудования и расходных материалов для проведения исследований методом тонкослойной хроматограф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ектрофотометр автоматически регистрирующий в УФ- и видим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рмостат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inder B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3 ( до  100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ня нагревательная водяная до 100°С с терморегулятором  и встряхивтелем для колб емк. 50 и 100 мл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ulabo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ня нагревательная водяная до 100°С с терморегулятором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  TW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2 (объём 4,5л 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 веществ в биожидко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горизонтального типа встряхивани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HS501 300 колеб/мин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орбитального типа встряхивани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K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60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 колеб/мин -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FE8E-904D-42D2-8146-3EA862DA1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шейк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M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2500 об/мин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ейк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Vibrax VX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комплектом насад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00 об/мин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ртекс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KA Labortechnik Lab Danc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. Процедура дерив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льтра-звуковая баня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ndelin Sonorex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rnste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 Line Aqua Vaw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9375 ёмк. 2л с терморегулятором до 80°С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льтра-звуковая баня ёмк. 9л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ndelin Sonorex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rnstead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 Line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терморегулятором до 80°С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-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етр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-21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ecker )/ Hanna Instrument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. Приготовление буфер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0 об.мин 4х50мл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M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3000 об.мин 12х15мл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токсических веществ в биопроб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ультифункциональная настольная центрифуга с индукционным мотором и микропроцессорным управлением “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ouan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” до 14500 об/мин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ppendorf Centrifug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5425 24х1,5 мл, 9000 об/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MicroC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17  24х1,5 мл, 9000 об/м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с охлаждением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 Cent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8х50 м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ифуга типа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rmo Scintifi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х50 мл, 4000 об/м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82A6-E65D-4586-B67F-C84CBD5BE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0"/>
            <a:ext cx="9144000" cy="78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куумный концентрато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V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2002 с регулированием вакуум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нтрирование органических экстрактов биологических объектов при пробоподготовке для анализа наркотических и лекарственных веще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центратор экстрактов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ierce Reacti Therm III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нагревательным модулем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acti Va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нтрирование органических экстрактов биологических объектов при пробоподготовке для анализа наркотических и лекарствен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плект дозаторов (1-канальных / постоянного и переменного объёма (10-100 мкл, 500 мкл, 100-1000 мкл, 1-5 мл, 10 мл), 8-канальных (10-100 мкл)) и диспенсеров с расходными материалами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мельчитель тканей (блендер)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аналитические 0,1 мг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готовление стандартных и калибровоч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 1 мг типа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HAUS Adventurer AR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130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лектронные весы  0,1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истил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идистил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иониз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доструйный нас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лодильная камера 0-4°С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биологических объ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розильная камера -18°С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биологическ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лодильники лабораторные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нение реактивов и стандартных раст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 для химических исследований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 для лабораторных исследований с подводкой электр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олы-мойки с вытяжной систе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5250-8F47-4C4F-8D32-593E9457A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ы, которые ставятся перед врачами СМЭ СХО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214280"/>
            <a:ext cx="8713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сти обнаружение, идентификацию, количественное определение токсических веществ в трупном матери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факт употребления и степень влияния различных токсических веществ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дение человека при совершении преступлений и правонарушений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ртв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ция аналитически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ить терапевтическую, токсическую, летальную концент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арактеризовать фармакологическое и токсическое действие на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7B5D-0521-48E9-8E71-960EE6F46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овой табель оборудовани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тяжные шкафы с подводкой электричества 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азовые баллоны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воздух) и газовые линии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нератор водород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нератор азота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 и пробоподготовки биологическ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прессор воздуха с ресивером (накопителем) на 25 л (безмаслянный)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газо-хроматограф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каф сушильный – стерилизационный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ботка посу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акуумная система для твёрдо-фазной экстракции (ТФЭ) -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кстракционные картриджи (патроны¸ колонки) для проведения ТФЭ для различных групп наркотических и лекарственных веществ -- 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боподготовка для анализа наркотических и сильнодействующих веществ в биообъ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актерицидная лампа типа ОБН-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точники бесперебойного питани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безопасного режима отключения  анализаторов  сильнодействующих лекарственных средств, газовых и жидкостных хроматографов, иммунных анализ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диционеры воздуха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условий для работоспособности анализаторов  сильнодействующих лекарственных средств, газовых и жидкостных хроматографов, иммунных анализ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пировальный аппа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еллажи для хранения архива и реакти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кафы металлические для хранения реакти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йф для хранения наркотических и сильнодействующ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ВС и АПК для статистической обработки данных лабораторны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E37B-58DA-4468-B2AF-AB7B0DEC9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988040" cy="53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эффициенты перерасчета судебно-химических исследований на полные анализы (условные единицы)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приказу № 407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10.12.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2BF9-8D53-442A-A54D-9648AD23F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333360"/>
          <a:ext cx="8640720" cy="6264360"/>
        </p:xfrm>
        <a:graphic>
          <a:graphicData uri="http://schemas.openxmlformats.org/drawingml/2006/table">
            <a:tbl>
              <a:tblPr/>
              <a:tblGrid>
                <a:gridCol w="5256000"/>
                <a:gridCol w="655560"/>
                <a:gridCol w="606600"/>
                <a:gridCol w="682560"/>
                <a:gridCol w="1440000"/>
              </a:tblGrid>
              <a:tr h="587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Газовая хроматография (ДТ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 Алко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1. Кров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2  Мо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3 Мыш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4 Дистилля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5 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. Окись угле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Газовая хроматография (ДИ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Лету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 Лекарств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 Гли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 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зовая хроматография (ДЭ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DD00-122B-4384-A435-22F8B75E9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24000" y="189000"/>
          <a:ext cx="8640720" cy="639756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71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Газовая хроматография (ТИ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ВЭЖ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Хромато -масс спектр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Перего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 Суррогаты алког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 Уксус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 Гли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 Синильн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 Ф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Изолирование лекарственных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 Вод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 Спи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 Ацетонитри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 Другими органическими раствор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EC8-1D2A-43F4-8FF1-6C256292D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24000" y="189000"/>
          <a:ext cx="8640720" cy="625608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70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Изолирование наркотиков из биожидк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Гидро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1 Внутренние орг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 Извл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Изолирование пестицидов  органическими раствор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1 Эфи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2 Гекса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3 Бензо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 Другими раствор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Спектрофот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1 УФ- область и вид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 ИК-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спектральная характеристи-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9B1D-CFDD-4785-B2B9-2FE3CBB32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24000" y="115920"/>
          <a:ext cx="8640720" cy="6564240"/>
        </p:xfrm>
        <a:graphic>
          <a:graphicData uri="http://schemas.openxmlformats.org/drawingml/2006/table">
            <a:tbl>
              <a:tblPr/>
              <a:tblGrid>
                <a:gridCol w="5184720"/>
                <a:gridCol w="726840"/>
                <a:gridCol w="606600"/>
                <a:gridCol w="682560"/>
                <a:gridCol w="1440000"/>
              </a:tblGrid>
              <a:tr h="498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Тонкослойная хро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1 Без элю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 Элю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пласт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1 Микрокристалл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 Окраш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. 8,9,10,11 одна реа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Дестр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Минер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Озо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 Ди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Спектрофотометрическое опреде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 Имунно -ферментный 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Прочие                                                                (по затрате времени) 1 п.а. = 25,5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895E-814E-492F-BF04-9B9F4289E3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1 ставку в месяц = 5 п.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 п.а.  =  25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году 365 дней  –  52 воскресен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 дней –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 рабочий д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/12  =  25 рабочих дней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,0 ставка / 1 рабочий день – 5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5 часов в месяц на 1,0 став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2852-7CBD-472E-A6EF-29CFF3613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884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агаемые к рассмотрению коэффициенты перерасчета судебно-химических исследований на полные анализы (условные единицы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1819-B9A1-4E2B-90B1-54C628374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95280" y="189000"/>
          <a:ext cx="8518680" cy="6703920"/>
        </p:xfrm>
        <a:graphic>
          <a:graphicData uri="http://schemas.openxmlformats.org/drawingml/2006/table">
            <a:tbl>
              <a:tblPr/>
              <a:tblGrid>
                <a:gridCol w="6334200"/>
                <a:gridCol w="218448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ы на 1 объект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Газохроматографическоое исследование этилового спи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ожидк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ш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Газохроматографическое исследование летучих веществ с Д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9144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зохроматографическое исследование лекарственных и наркотических веществ с пробоподготовкой (ВЭЖХ, ЭЗД, ТИД, ХМ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Исследование летучих веществ методом перегонки с водяным пар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Иммунный метод на одну группу наркотических и лекарственны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Исследование наркотических и лекарственных веществ методом ТСХ с пробоподготовкой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Исследование пестицидов методом ТСХ с пробоподготовкой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Спектрофотометрическое исследование в одной эксперти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Исследование на ртуть с пробоподготовкой (деструк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Исследование на соли тяжелых металлов с пробоподготовкой (минерализа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Исследование кислот, щелочей с пробоподготовкой (диали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Определение карбоксигемогло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Прочие                                                                                            (по затрате времени) 1 п.а.= 25 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B6A7-512E-482F-9CA4-8E99D888A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етодология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ое обеспечение методическими и информационными материа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ие СХО Бюро в НИ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ка и внедрение в практику методов исследования биологических проб на токсикологически важны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D279-B5DC-43AC-88DF-C493C6D89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экспертиз и исследований должны быть достоверными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357200"/>
            <a:ext cx="871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пробы  должна удовлетворять цели исследования и обеспечивать проведение дальнейшего анализа с достоверным результ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не менее двух методов, основанных на  различных физико-химических принципах, снижают возможности ошибок при проведении анализа на различные группы наркотических, психотропных и других токсически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Ложно-положительные и ложно-отрицательные результаты имеют крайне неблагоприятные последствия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F633-3534-460A-994B-8CA4A0DFC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инансировани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обходимая предпосылка развития и успешного функционирования СХО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643040"/>
            <a:ext cx="8713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ое финансирование путем включения Бюро СМЭ в целевые Федеральные и  региональные программы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я и укрепления материально-технической б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я высокотехнологичного современного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ных материалов и реа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и и обучения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участие Администрации районов в организации районных отделений, а также в улучшении условий работы  действующих РС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FB07-A5F2-474D-927D-A5E539940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-167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72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исследований в судебно-химическом отд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З МО Бюро судебно-медицинской 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нтральный судебно-химический  отдел  (ЦСХО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 биопроб человека на этано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гие спирты, растворители, наркотические,  психотропные, лекарственные и другие токсические 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йонные  судебно-химические отделения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отдел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 биопроб человека на этанол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е спирты, растворител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 предварительный анализ  на наркотические и психотропны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подтверждением полученных положительных результатов в ЦС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кресе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ши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О. Зу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до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Протв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ят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рь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Мытищ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митров                                       Можай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ль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Щёлко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Электрост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1523880" y="41911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2666880" y="4266720"/>
            <a:ext cx="838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1143000" y="4419720"/>
            <a:ext cx="17524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44956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3505320" y="4343040"/>
            <a:ext cx="53316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 flipV="1">
            <a:off x="5181120" y="434304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 flipV="1">
            <a:off x="5714640" y="44193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 flipV="1">
            <a:off x="6400440" y="42667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 flipV="1">
            <a:off x="5486040" y="441936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H="1">
            <a:off x="4800600" y="4343400"/>
            <a:ext cx="76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3081-B7B5-49F3-B2F4-DA3F28764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дебно-химический отдел 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УЗ МО Бюро СМЭ МЗ МО производит экспертизы и исследовани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78596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аправлениям врачей СМЭ районных отделений Бю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аправлениям врачей Л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идетельствование на состояние наркотического опьянения (наркологических диспансеров и кабинетов, отделений реанимации и интенсивной терапии, приемных отделений больниц), и по направлениям и постановлениям правоохранительных органов, в том числе, МВД, ГИБДД, УФСК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ностика при острых отрав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9428-17DC-4388-BB87-455F06BAF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4101-4E0E-4703-8C24-D04177B20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м работы судебно-химического отдела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УЗ МО  Бюро СМЭ МЗ М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468360" y="1700280"/>
          <a:ext cx="403848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40384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4284720" y="4076640"/>
          <a:ext cx="4397400" cy="20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076640"/>
                    <a:ext cx="43974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5072040" y="1571760"/>
          <a:ext cx="3908520" cy="24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2040" y="1571760"/>
                    <a:ext cx="39085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выполнение большого объёма экспертиз и исследований с хорошими сроками проделана огромная работ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571400"/>
            <a:ext cx="8713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пересмотрен подход к проведению анализа  и организации работы сотрудников отде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дрена специализация по мет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озможности, обновлено обору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дрены новые высокочувствительные инструменталь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DCE5-0016-4197-8FEB-D1C21CD0F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B7E8-3EFC-4F42-8EAB-7EBB63E77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метода ГХ-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разделения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итель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роизводим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корость-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иентный режим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н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ёж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стабильные, низко- и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-полярные ана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ктор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-чувствительный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е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за собой влечёт внедрение инструментальных методов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и новых методик пробоподготовки и индивидуальных проб для каждого метода исследования. Подбор растворителей и условий экстракции с учетом различных свойств токсикантов и возможностей детекторов – сложная задача для проведения скрининга на неизвестное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 чувствительность позволяет использовать  пробы малой размерности и требует проведения высокой степени очистки от соэкстрактив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и внедрение методик анализа на различные группы веществ и их метаболитов  с учетом чувствительности оборудования, которым располагает то или иное отделение требует колоссальных усилий времени и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высокопрофессиональных специалистов, способных овладеть и бесперебойно работать на высокотехнологичном оборудовании особенно актуальна в настояще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A360-163D-49BA-8A8C-4AB90B429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0:29:21Z</dcterms:created>
  <dc:creator>--</dc:creator>
  <dc:description/>
  <dc:language>en-US</dc:language>
  <cp:lastModifiedBy>Олег Шемякин</cp:lastModifiedBy>
  <dcterms:modified xsi:type="dcterms:W3CDTF">2009-05-22T06:01:09Z</dcterms:modified>
  <cp:revision>79</cp:revision>
  <dc:subject/>
  <dc:title>Коэффициенты перерасчета судебно-химических исследований на полные анализы (условные единицы)</dc:title>
</cp:coreProperties>
</file>