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4D5-D93A-4377-84C9-C21EA1C4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3F2-0509-4696-828F-6299BF6F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CF8-3D2B-40AB-8082-96940DFE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CE9-C049-4808-A9BB-67DBAD64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6520-F4F0-40CA-90B0-CFEEB2DA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E7B5-1AEC-4B66-BA79-C1B11F36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A04D-D9C3-4C5A-80BB-C2E9E82C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4684-0B06-4C34-961E-1CD98530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4D06-792D-4BB2-979D-CA3DAFFD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CF3C-4799-4F30-A236-DF4DE3FC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F52C-3369-4027-81D5-DBB985E1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264-32CD-4594-BB36-A9D748A8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2EC3-0356-4D02-9765-B2257C9B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9DE9-962C-4525-B5DB-4F87EBAC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D838-92D4-4927-8BFC-7F31E749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FE5E-2A3F-49D8-AEDE-93E67B88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D456-D242-4EAD-9CB6-EA8C7F67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AA7-B849-4B16-AFC0-7D80F111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3E0-3B2E-4FE7-AAA4-035DC570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18C-26B3-4A19-B79C-7C539B27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668-8397-4720-BEC7-CA977AC5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9BD-3471-4E3B-95A7-C1A9E341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FCE-DAF2-4878-8187-1C3FA089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48E-D916-47C8-BDFF-7EB1DD9C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A18E-D7E7-4109-9511-37F1CD47E16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E2AB-4CCF-4777-9B1F-06AF61E6F67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31800" y="1962720"/>
            <a:ext cx="818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 проектах реорганизаци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менениях финансирования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дели судебно-медицинской служб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404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осударственное учреждение здравоохранения Московской обла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ро судебно-медицинской эксперти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112536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ьник  Бюро  Заслуженный врач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С. Ривенсо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07600" y="2636280"/>
            <a:ext cx="67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Дорогу осилит идущий»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163296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системе Минздравсоцразвития Росси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истеме министерства внутренних дел РФ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истеме министерства юстиции РФ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рокуратур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5080" y="26028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каком ведомстве должна находить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дебно-медицинская служб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3284640"/>
            <a:ext cx="8496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иб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государственного комитета судебно-медицинской экспертизы с вертикальной властью и подчинением  всей судебно-медицинской службы Федеральному ведомств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213372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125360"/>
            <a:ext cx="8496000" cy="71928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4437000"/>
            <a:ext cx="7848720" cy="129708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8520" y="259200"/>
            <a:ext cx="79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ые аргументы сторонников реорганиз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654800"/>
            <a:ext cx="878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лицензий на судебно-медицинскую дея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37440" y="1268280"/>
            <a:ext cx="90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недостаточное финансирование в субъектах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5280" y="2205000"/>
            <a:ext cx="69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отсутствие должной материально-технической ба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2997360"/>
            <a:ext cx="360360" cy="863280"/>
          </a:xfrm>
          <a:prstGeom prst="downArrow">
            <a:avLst>
              <a:gd name="adj1" fmla="val 50000"/>
              <a:gd name="adj2" fmla="val 5989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755640" y="260280"/>
            <a:ext cx="7777080" cy="3168360"/>
            <a:chOff x="755640" y="260280"/>
            <a:chExt cx="7777080" cy="3168360"/>
          </a:xfrm>
        </p:grpSpPr>
        <p:graphicFrame>
          <p:nvGraphicFramePr>
            <p:cNvPr id="166" name=""/>
            <p:cNvGraphicFramePr/>
            <p:nvPr/>
          </p:nvGraphicFramePr>
          <p:xfrm>
            <a:off x="1292040" y="260280"/>
            <a:ext cx="6752520" cy="284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2040" y="260280"/>
                      <a:ext cx="6752520" cy="284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755640" y="2411280"/>
            <a:ext cx="7777080" cy="101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2411280"/>
                      <a:ext cx="7777080" cy="101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4509720" y="2811240"/>
              <a:ext cx="187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09720" y="2931480"/>
              <a:ext cx="2077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09720" y="3050280"/>
              <a:ext cx="1743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09720" y="3170160"/>
              <a:ext cx="1207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-4629240" y="-3895920"/>
            <a:ext cx="196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шение о СМЭ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413520"/>
            <a:ext cx="889308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РОЕКТ РЕШЕНИЯ № 1/Пзр-06 от 25.10.0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О необходимости передачи сети БСМЭ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д ведомство Росздравнадзора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огласно заявлению Главного судебно-медицинского эксперта Росздравнадзора Плаксина В.О., сделанного в "Медицинской газете" № 65 от 24.08.2005., более шестидесяти из 87 бюро СМЭ (судебно-медицинской экспертизы) в России не имеют лицензии на тот вид деятельности, для которого они созданы. В соответствии с ФЗ РФ "О лицензировании отдельных видов деятельности", Постановлением Правительства Российской Федерации от 4 июля 2002 г. N 499 "Об утверждении Положения о лицензировании медицинской деятельности", Приказом Минздрава РФ от 26 июля 2002 г. N 238 "Об организации лицензирования медицинской деятельности" судебно-медицинская экспертная деятельность подлежит лицензированию Минздравсоцразвития РФ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ведение экспертиз без лицензии делает их неправомерными (за исключением экспертиз по материалам уголовных и гражданских дел) с точки зрения важнейших, специфических вопросов, возникающих в судах и во время следствия. Заключения БСМЭ, не имеющих лицензии, не могут считаться экспертизами в силу закона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а сегодняшний день в России действуют правила установления степени тяжести вреда здоровью 1978 года, которые устарели со всех точек зрения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Утрачены единые методы и принципы экспертной работы, что, в конечном счете, приводит к неоправданно различным требованиям к качеству медицинской помощи в различных регионах РФ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Независимых от системы здравоохранения экспертных учреждений, за исключением нескольких центров в системе Министерства обороны РФ и Министерства юстиции РФ, на государственном уровне не существует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тиворечит нормам (ст.7 Закона РФ "О государственной судебно-экспертной деятельности") и духу права проведение экспертизы силами одного учреждения управления здравоохранения субъекта РФ в отношении другого его же учреждения, предопределяя зависимость БСМЭ от собственника (ст. 120 ГК РФ) - администрации субъекта РФ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з-за необъективных и необоснованных экспертных заключений в делах о "врачебных ошибках", виновные врачи избегают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4629240" y="9103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4629240" y="10111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711360"/>
            <a:ext cx="8964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а) Более независимой судебно-медицинской службы, находящейся в ведении здравоохранении Субъектов РФ быть не може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удебно-медицинская служба является «медициной в праве» и должна быть независима от учреждений и лиц назначающих экспертные исследова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б) Большое количество  судебно-медицинских учреждений на  территории России, не может эффективно управляться и контролироваться из одного цент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в) Судебно-медицинская служба давно участвует в контроле качества оказания медицинской помощи, но это не основная её задача, хотя она должна участвовать в этой работе в гораздо большей степен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ля осуществления этой задачи необходимо решить целый ряд проблем и в первую очередь кадровую, финансовую и организационно-методическую вне зависимости от ведомственной  принадлежности бюро судебно-медицинской экспертиз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г) Причины недостаточной материально-технической базы судебно-медицинской службы, дефицита кадров и т.п. лежат гораздо глубже, чем кажется на первый взгляд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6960" y="20952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ы счита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276720" y="189000"/>
          <a:ext cx="261432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89000"/>
                    <a:ext cx="261432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61920" y="3465360"/>
            <a:ext cx="9082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Настоящий законопроект разработан с целью внесения изменения в статью 52 Основ законодательства Российской Федерации  об охране здоровья граждан от 22 июля 1993 года № 5487-1 в части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исключения организации деятельности государственных судебно-экспертных учреждений – бюро судебно-медицинской экспертизы из полномочий субъекта Российской Федерац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78656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…не предоставляется возможным оценить в целом затраты по Российской Федерации в случае передачи учреждений судебно-медицинской экспертизы на федеральный уровень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.В. Горчаков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5804640"/>
            <a:ext cx="856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Правительством Российской Федерации указанный проект 23 июля 2007 года отклонен по ряду оснований и замечаний, изложенных в «Заключении» Заместителя Председателя Правительства Российской Федерации А. Жуко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9840" y="1476000"/>
            <a:ext cx="88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едложения РЦСМЭ об изменении финансирования и модели судебно-медицинской служб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714320" cy="457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627280" y="225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ервое заседание Федерального координационно-методического совета по судебно-медицинской экспертизе при Российском центре судебно-медицинской экспертизы (ФКМС)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00080" y="1124280"/>
            <a:ext cx="33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г. Санкт-Петербург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6 июня 2008 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2576160"/>
            <a:ext cx="8497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- «…Поддержание большого количества мелких и малоэффективных региональных подразделений в БСМЭ </a:t>
            </a: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нецелесообразно и даже вредно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, так как ведет к распылению материальных ресурсов на содержание этих лабораторий, на подготовку для них кадров, консультативную поддержку и необходимые меры по контролированию их деятельно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- «… представляется целесообразным ограниченное количество базовых территориально обособленных структурных подразделений (филиалов специализированного федерального государственного учреждения – РЦСМЭ… в центрах федеральных округов…»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8920" y="254880"/>
            <a:ext cx="6557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редложения об изменении модели судебно-медицинской службы в РФ и передаче этой службы на Федеральный уровен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атегорически неприемлемо по следующим основаниям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1080" y="2006640"/>
            <a:ext cx="26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С точки зрения юридической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2296440"/>
            <a:ext cx="8209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Попытка передачи обязанности оказания специализированной медицинской помощи в виде производства судебно-медицинской экспертизы с уровня субъекта Российской Федерации на уровень органа федеральной исполнительной власти является грубым нарушением установленного Конституцией РФ и федеральными законами порядка организации работы в указанной сфере и всей правовой основы государственной судебно-медицинской деятельности на территории Российской Федерации.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3520" y="3601440"/>
            <a:ext cx="27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С точки зрения экономической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3080" y="4104360"/>
            <a:ext cx="573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реорганизация не выгодна государству и здравоохранению страны.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9840" y="4753800"/>
            <a:ext cx="22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С точки зрения практики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5126760"/>
            <a:ext cx="83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реорганизация и переподчинение приведут к развалу много десятилетий успешно работающей судебно-медицинской системы, поскольку субъект РФ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более не обязан предоставлять для СМЭ здания, территории, помещения, жилье для сотрудников, создавать иные условия, необходимые для производственной деятельности.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12420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еобходимо вернутся к вопросу о внесении поправок и дополнений к Федеральному закону «О государственной судебно-экспертной деятельности в Российской Федерации», которые будут касаться судебно-медицинской деятельност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роме уже вышеперечисленных аргументов для выхода с законодательной инициативой в Государственную Думу через Минздравсоцразвития России следует указать тот факт, что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судебно-медицинская экспертиза является одной из важнейших составляющих борьбы с преступность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ежегодно в государственных судебно-медицинских экспертных учреждениях выполняются более 2-х миллионов судебно-медицинских экспертиз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судебно-медицинская экспертиза осуществляется в Уголовном и Гражданском судопроизводствах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производство судебно-медицинских экспертиз является обязательным  по всем делам, связанным с преступлениями  против жизни и здоровья личност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развитие гражданско-правовых отношений обуславливает  постоянный рост числа  судебно-медицинских экспертиз в гражданском процессе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в каждом министерстве и ведомстве, имеющем систему учреждений судебно-медицинской экспертизы, действуют различные правовые нормативные акты, регулирующие производство судебно-медицинской экспертизы. Вместе с тем, судебно-медицинская экспертиза едина по своей сути и предназначению, поэтому ее цели и производство должны осуществляется  с соблюдением единых норм производств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существуют значительные проблемы, касающиеся организационно-методического и финансового обеспечения судебно-медицинской деятельност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одна из важнейших проблем, - это контроль за деятельностью в области судебно-медицинской экспертизы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судебно-медицинская экспертиза в отличие от других видов  экспертной деятельности служит не только целям и задачам правосудия, но её деятельность направлена на всемерное содействие органам здравоохранения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 улучшении качества оказании медицинской помощи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5:47:55Z</dcterms:created>
  <dc:creator>Эксперт</dc:creator>
  <dc:description/>
  <dc:language>en-US</dc:language>
  <cp:lastModifiedBy>Эксперт</cp:lastModifiedBy>
  <dcterms:modified xsi:type="dcterms:W3CDTF">2009-05-20T05:33:12Z</dcterms:modified>
  <cp:revision>12</cp:revision>
  <dc:subject/>
  <dc:title>Слайд 1</dc:title>
</cp:coreProperties>
</file>