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ADD-D94C-455B-AC95-33C27FD6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016-5F9A-44A9-84B5-21842621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285-CADF-44A2-BA88-900010C9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3BA-8D16-4608-9E33-F760FE1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F18E-1545-49A8-BB95-8AD68457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0074-AD46-450B-AB17-59C24DF9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096C-A22D-4836-B05C-E2A069E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7C5-ADBF-4740-BC37-4BB3C04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DB82-37EB-4428-B1AE-5D23647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A31F-9915-4567-8EDB-45FD25B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791A-A734-4619-A5D7-EE09C77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85C-2B4A-4382-ADA9-C6151C0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C37-51D6-4636-9BB3-232F039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2785-DFD4-4D9F-9185-BF814E8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0FBB-674E-4F26-8CD6-C66D2398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F62-A2E7-4120-9174-51D99B1D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4394-C378-4C58-9148-6C0D8C58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A33-E9F0-47AB-8B98-985B6507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9B0-E943-4019-BEE6-8FACAC0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BD0-9DC2-4653-99BE-A044126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D7C-9AD0-47D5-B772-9212A8E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AD6-7974-41CB-905E-5637514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0AD-B347-46A7-9D6F-8CF0C2F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D4E-C18D-4B97-8546-6A78190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C12D-693F-4348-BC88-86379F40E8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9B0A-E4DC-4C87-BF73-21E0582EC8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31800" y="1962720"/>
            <a:ext cx="81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проектах ре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менениях финансирован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дели судебно-медицинской служ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сударственное учреждение здравоохранения Москов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ро судебно-медицинской эксперти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112536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ик  Бюро  Заслуженный врач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С. Ривенс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07600" y="2636280"/>
            <a:ext cx="67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Дорогу осилит идущий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6329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истеме Минздравсоцразвития Росси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министерства внутренних дел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министерства юстиц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рокуратур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5080" y="26028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каком ведомстве должна находи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дебно-медицинская служб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284640"/>
            <a:ext cx="84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б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государственного комитета судебно-медицинской экспертизы с вертикальной властью и подчинением  всей судебно-медицинской службы Федеральному ведомств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213372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125360"/>
            <a:ext cx="849600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437000"/>
            <a:ext cx="7848720" cy="129708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8520" y="25920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аргументы сторонников ре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654800"/>
            <a:ext cx="87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лицензий на судебно-медицинскую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7440" y="1268280"/>
            <a:ext cx="90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недостаточное финансирование в субъектах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5280" y="22050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сутствие должной материально-технической б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97360"/>
            <a:ext cx="360360" cy="863280"/>
          </a:xfrm>
          <a:prstGeom prst="downArrow">
            <a:avLst>
              <a:gd name="adj1" fmla="val 50000"/>
              <a:gd name="adj2" fmla="val 5989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755640" y="260280"/>
            <a:ext cx="7777080" cy="3168360"/>
            <a:chOff x="755640" y="260280"/>
            <a:chExt cx="7777080" cy="3168360"/>
          </a:xfrm>
        </p:grpSpPr>
        <p:graphicFrame>
          <p:nvGraphicFramePr>
            <p:cNvPr id="166" name=""/>
            <p:cNvGraphicFramePr/>
            <p:nvPr/>
          </p:nvGraphicFramePr>
          <p:xfrm>
            <a:off x="1292040" y="260280"/>
            <a:ext cx="6752520" cy="284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2040" y="260280"/>
                      <a:ext cx="6752520" cy="284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755640" y="2411280"/>
            <a:ext cx="7777080" cy="101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411280"/>
                      <a:ext cx="7777080" cy="101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509720" y="2811240"/>
              <a:ext cx="187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9720" y="2931480"/>
              <a:ext cx="2077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9720" y="3050280"/>
              <a:ext cx="1743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9720" y="3170160"/>
              <a:ext cx="1207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-4629240" y="-3895920"/>
            <a:ext cx="19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шение о СМЭ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413520"/>
            <a:ext cx="889308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ЕКТ РЕШЕНИЯ № 1/Пзр-06 от 25.10.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О необходимости передачи сети БСМЭ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 ведомство Росздравнадзора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гласно заявлению Главного судебно-медицинского эксперта Росздравнадзора Плаксина В.О., сделанного в "Медицинской газете" № 65 от 24.08.2005., более шестидесяти из 87 бюро СМЭ (судебно-медицинской экспертизы) в России не имеют лицензии на тот вид деятельности, для которого они созданы. В соответствии с ФЗ РФ "О лицензировании отдельных видов деятельности", Постановлением Правительства Российской Федерации от 4 июля 2002 г. N 499 "Об утверждении Положения о лицензировании медицинской деятельности", Приказом Минздрава РФ от 26 июля 2002 г. N 238 "Об организации лицензирования медицинской деятельности" судебно-медицинская экспертная деятельность подлежит лицензированию Минздравсоцразвития РФ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ведение экспертиз без лицензии делает их неправомерными (за исключением экспертиз по материалам уголовных и гражданских дел) с точки зрения важнейших, специфических вопросов, возникающих в судах и во время следствия. Заключения БСМЭ, не имеющих лицензии, не могут считаться экспертизами в силу закона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 сегодняшний день в России действуют правила установления степени тяжести вреда здоровью 1978 года, которые устарели со всех точек зрения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Утрачены единые методы и принципы экспертной работы, что, в конечном счете, приводит к неоправданно различным требованиям к качеству медицинской помощи в различных регионах РФ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Независимых от системы здравоохранения экспертных учреждений, за исключением нескольких центров в системе Министерства обороны РФ и Министерства юстиции РФ, на государственном уровне не существует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тиворечит нормам (ст.7 Закона РФ "О государственной судебно-экспертной деятельности") и духу права проведение экспертизы силами одного учреждения управления здравоохранения субъекта РФ в отношении другого его же учреждения, предопределяя зависимость БСМЭ от собственника (ст. 120 ГК РФ) - администрации субъекта РФ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-за необъективных и необоснованных экспертных заключений в делах о "врачебных ошибках", виновные врачи избегают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629240" y="9103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4629240" y="10111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11360"/>
            <a:ext cx="896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а) Более независимой судебно-медицинской службы, находящейся в ведении здравоохранении Субъектов РФ быть не мож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удебно-медицинская служба является «медициной в праве» и должна быть независима от учреждений и лиц назначающих экспертные исследо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б) Большое количество  судебно-медицинских учреждений на  территории России, не может эффективно управляться и контролироваться из одного цент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) Судебно-медицинская служба давно участвует в контроле качества оказания медицинской помощи, но это не основная её задача, хотя она должна участвовать в этой работе в гораздо большей степен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ля осуществления этой задачи необходимо решить целый ряд проблем и в первую очередь кадровую, финансовую и организационно-методическую вне зависимости от ведомственной  принадлежности бюро судебно-медицинской экспертиз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г) Причины недостаточной материально-технической базы судебно-медицинской службы, дефицита кадров и т.п. лежат гораздо глубже, чем кажется на первый взгля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6960" y="20952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ы счит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76720" y="189000"/>
          <a:ext cx="26143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9000"/>
                    <a:ext cx="26143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1920" y="3465360"/>
            <a:ext cx="9082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Настоящий законопроект разработан с целью внесения изменения в статью 52 Основ законодательства Российской Федерации  об охране здоровья граждан от 22 июля 1993 года № 5487-1 в части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 организации деятельности государственных судебно-экспертных учреждений – бюро судебно-медицинской экспертизы из полномочий субъекта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7865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…не предоставляется возможным оценить в целом затраты по Российской Федерации в случае передачи учреждений судебно-медицинской экспертизы на федеральный уровень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.В. Горчаков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80464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Правительством Российской Федерации указанный проект 23 июля 2007 года отклонен по ряду оснований и замечаний, изложенных в «Заключении» Заместителя Председателя Правительства Российской Федерации А. Жуко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840" y="147600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дложения РЦСМЭ об изменении финансирования и модели судебно-медицинской служ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27280" y="225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ервое заседание Федерального координационно-методического совета по судебно-медицинской экспертизе при Российском центре судебно-медицинской экспертизы (ФКМС)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0080" y="1124280"/>
            <a:ext cx="33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. Санкт-Петербург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 июня 2008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2576160"/>
            <a:ext cx="849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- «…Поддержание большого количества мелких и малоэффективных региональных подразделений в БСМЭ 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нецелесообразно и даже вредно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, так как ведет к распылению материальных ресурсов на содержание этих лабораторий, на подготовку для них кадров, консультативную поддержку и необходимые меры по контролированию их 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- «… представляется целесообразным ограниченное количество базовых территориально обособленных структурных подразделений (филиалов специализированного федерального государственного учреждения – РЦСМЭ… в центрах федеральных округов…»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8920" y="254880"/>
            <a:ext cx="655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едложения об изменении модели судебно-медицинской службы в РФ и передаче этой службы на Федеральный уров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тегорически неприемлемо по следующим основаниям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1080" y="200664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юридическо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296440"/>
            <a:ext cx="820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Попытка передачи обязанности оказания специализированной медицинской помощи в виде производства судебно-медицинской экспертизы с уровня субъекта Российской Федерации на уровень органа федеральной исполнительной власти является грубым нарушением установленного Конституцией РФ и федеральными законами порядка организации работы в указанной сфере и всей правовой основы государственной судебно-медицинской деятельности на территории Российской Федерации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3520" y="3601440"/>
            <a:ext cx="27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экономическо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3080" y="4104360"/>
            <a:ext cx="573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организация не выгодна государству и здравоохранению страны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840" y="4753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 точки зрения практик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12676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организация и переподчинение приведут к развалу много десятилетий успешно работающей судебно-медицинской системы, поскольку субъект РФ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более не обязан предоставлять для СМЭ здания, территории, помещения, жилье для сотрудников, создавать иные условия, необходимые для производственной деятельности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2420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обходимо вернутся к вопросу о внесении поправок и дополнений к Федеральному закону «О государственной судебно-экспертной деятельности в Российской Федерации», которые будут касаться судебно-медицинской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роме уже вышеперечисленных аргументов для выхода с законодательной инициативой в Государственную Думу через Минздравсоцразвития России следует указать тот факт, чт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является одной из важнейших составляющих борьбы с преступность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ежегодно в государственных судебно-медицинских экспертных учреждениях выполняются более 2-х миллионов судебно-медицинских экспертиз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осуществляется в Уголовном и Гражданском судопроизводствах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производство судебно-медицинских экспертиз является обязательным  по всем делам, связанным с преступлениями  против жизни и здоровья лич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развитие гражданско-правовых отношений обуславливает  постоянный рост числа  судебно-медицинских экспертиз в гражданском процессе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в каждом министерстве и ведомстве, имеющем систему учреждений судебно-медицинской экспертизы, действуют различные правовые нормативные акты, регулирующие производство судебно-медицинской экспертизы. Вместе с тем, судебно-медицинская экспертиза едина по своей сути и предназначению, поэтому ее цели и производство должны осуществляется  с соблюдением единых норм производст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ществуют значительные проблемы, касающиеся организационно-методического и финансового обеспечения судебно-медицинской деятель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одна из важнейших проблем, - это контроль за деятельностью в области судебно-медицинской экспертиз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судебно-медицинская экспертиза в отличие от других видов  экспертной деятельности служит не только целям и задачам правосудия, но её деятельность направлена на всемерное содействие органам здравоохранения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 улучшении качества оказании медицинской помощи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5:47:55Z</dcterms:created>
  <dc:creator>Эксперт</dc:creator>
  <dc:description/>
  <dc:language>en-US</dc:language>
  <cp:lastModifiedBy>Эксперт</cp:lastModifiedBy>
  <dcterms:modified xsi:type="dcterms:W3CDTF">2009-05-20T05:33:12Z</dcterms:modified>
  <cp:revision>12</cp:revision>
  <dc:subject/>
  <dc:title>Слайд 1</dc:title>
</cp:coreProperties>
</file>