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16E-70AE-48F8-9079-2F3981583BA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125-B0BA-48E8-BF3E-F9F86F9DB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A2C-D837-4CE2-B91F-FF25133F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1DE-AE60-4557-9F94-11BC0522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9E1C-31C6-4F65-A1C6-47880884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A16F-997A-417F-89BA-EDCC53B2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1144-6C7C-4342-A934-E374D4B9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4607-4D76-4368-AEA3-E441F788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EC90-79F4-44B2-9635-12080DCE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7CF6-4126-40D8-88E3-F70A8AEA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7FA0-D5F5-4C58-ABD3-59D9FE06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7C9-92DD-4B86-BED2-8B6D9174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957-CB65-4360-98D6-A78ED627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A6F2-249F-4AB7-932F-63B62DAA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D7B1-E49B-48FA-8AC9-8BF6E8E4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72F1-C679-4B7E-94DE-C66466D3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9A83-CF8D-4258-821F-7839C30D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84C2-A68C-45E1-949C-326166E1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A90-67F0-436B-8866-81D62AD4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162-9EE4-4867-9B40-14C2C68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818-37A2-4B70-8F56-9A7D04D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46F-C76C-4A39-8D3D-2C2F925C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0F2-2808-4F32-9D56-FB68178C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2FC-0EC0-4116-80AE-687DDDC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AD4-A3E5-4E0E-921E-21A253A4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EFE2-97A0-4CD4-9AEF-606195B25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F8DA-2EB6-4D91-8480-D902EBEA2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Вопросы организации судебно-медицинской службы федерального округа в системе единой государственной судебно-медицинской экспертизы Росси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Г.И. Заславский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И.Е. Лобан</a:t>
            </a:r>
            <a:br>
              <a:rPr sz="2400"/>
            </a:b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В.Л. Попов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77720" y="436320"/>
            <a:ext cx="81885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нститут главных внештатных специалистов оправдал себя, но требует совершенствования, единого руководства и поддержки со стороны Министерства здравоохранения и социального развития Р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зовые (окружные) бюро судебно-медицинской экспертизы должны стать важным звеном в системе управления государственной судебно-медицинской деятельност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тус экспертного учреждения как базового (окружного) бюро должен определять Минздравсоцразвития России на конкурсной осно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ффективное выполнение межрегиональных функций предполагает необходимость дополнительного финансирования из федерального бюдж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обенности современного этапа  развития судебно-медицинской экспертизы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22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860640"/>
            <a:ext cx="871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Возрастание сложности  решаемых задач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овышение требований к качеству и результативности экспертных исследований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Нестабильный уровень управляе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Судебно-медицинская экспертиза Российской Федерации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–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единая структура, образованная сетью федеральных и территориальных судебно-медицинских экспертных учреждений государственной системы здравоохранения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4360" y="836640"/>
            <a:ext cx="788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249228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ФЕДЕРА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50920" y="314172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2. МЕЖРЕГИОНАЛЬНЫЙ (окружно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3860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РЕГИОНАЛЬНЫЙ  (территориальн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4508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СТРУКТУР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5084640"/>
            <a:ext cx="64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Times New Roman"/>
              </a:rPr>
              <a:t>5. ПЕРСОНАЛЬНЫЙ (самоуправл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981000"/>
            <a:ext cx="903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ерархия субъектов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 системе управления государственной судебно-медицинской деятельностью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уровни управления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новные функции базовых (окружных) бюро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ординация государственных и общественных органов по вопросам деятельности судебно-медицинской служб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взаимодействие с органами государственной власти, местного самоуправления и иными государственными и общественными институтами ок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ежрегиональная внутриведомственная интеграция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укрепление связей между экспертными учреждениями разных субъектов федерации, развитие форм их взаимодействия с органами управления и учреждениями государственной и муниципальной систем здравоохранени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межведомственная координация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 правоохранительными, судеб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изводство повторных и комиссионных экспертиз по сложным дела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едоставление на договорной основе аппаратно-технических средств окружного бюро специалистам территориальных экспертных учреждений округ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онсультативная и научно-методическая помощь сотрудникам территориальных бюро в выполнении экспертных и научных исследований, в освоении новых методик и технологий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4720" y="396360"/>
            <a:ext cx="81360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сновные функции базовых бюро</a:t>
            </a:r>
            <a:br>
              <a:rPr sz="32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(продолжение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1457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стематический анализ состояния судебно-медицинской работы в округе, сравнительный статистический анализ данных экспертных учреждений округа с информированием региональных бюро о результатах анализ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оздание базы данных по убийствам с признаками серийности, межрегионального банка генетических паспортов объектов исследования, формирование научно-аналитических групп для анализа преступлений, имеющих признаки серийных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зработка планов совместной работы в условиях чрезвычайных ситуаций, оказания экстренной консультативной и оперативной помощи в случаях техногенных катастроф, террористических актов и других происшествий с массовым числом жертв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оведение аттестации врачей и среднего медицинского звена на межрегиональной аттестационной комисс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готовка и переподготовка врачебного и среднего медицинского персонала для региональных бюро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рганизация и координация научных исследований – проведение  научно-практических конференций, семинаров, симпозиумов, выполнение совместных научных исследований, публика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4720" y="396360"/>
            <a:ext cx="81360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ематика научно-практических конференций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(2004-2008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Международный конгресс Балтийской судебно-медицинской ассоциации (г. СПб., 2004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пектральные методы исследования в судебной медицине» (г. СПб., 2004 г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удебно-медицинская экспертиза половых состояний» (г. СПб., 2006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рганизационные и процессуальные вопросы судебно-биологической экспертизы» (разработана концепция развития судебно-медицинской биологии (г. СПб., 2007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еждународный семинар-совещание заведующих судебно-гистологическими отделениями и судебно-медицинских экспертов-гистологов СЗФО с участием экспертов многих регионов РФ, Украины и стран Балтии (г. СПб., 2007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ктуальные вопросы организации и проведения сложных экспертиз» (г. СПб., 2007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рганизация взаимодействия и содержание работы судебно-медицинских экспертов и клиницистов при судебно-медицинской экспертизе черепно-мозговой травмы» (г. СПб, 2008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Организация и содержание планово-экономической работы в бюро судебно-медицинской экспертизы» (г. СПб., 2008 г.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850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ематика совещаний</a:t>
            </a:r>
            <a:br>
              <a:rPr sz="2800"/>
            </a:b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Экспертно-консультативного совета (2004-2009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формировании бригад быстрого реагирования для организации оперативной экспертной работы при возникновении чрезвычайных ситуаций с массовым числом жертв (СПб., 2004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ссмотрение предложений по нормированию экспертной нагрузки и составлению штатного расписания бюро судебно-медицинской экспертизы (СПб., 2005; г. Калининград, 2008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взаимодействии с учреждениями здравоохранения, прокуратурой и органами внутренних дел по обеспечению выполнения требований законодательства к организации хранения и захоронения невостребованных и неопознанных труп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б этической комиссии ЭКС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ние судебно-медицинской диагностики алкогольной интоксикац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Концепция участия судебно-медицинской службы в реализации национального приоритетного направления «Здоровье»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взаимодействии со структурами Следственного комитета при прокуратуре РФ (г. СПб., 2007 г., г. Калининград, 2008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 совершенствовании управления судебно-медицинской службой (г. Сыктывкар, 2009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7720" y="436320"/>
            <a:ext cx="81885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Тематические рабочие совещаниях судебно-медицинских экспертов округа (2005-2008 гг.)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судебно-медицинских экспертов генетиков СЗФО «Взаимодействие молекулярно-генетических подразделений СЗФО РФ» (г. СПб., 2005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заместителей начальников территориальных бюро судебно-медицинской экспертизы округа по организационно-методической работе (заведующих организационно-методическими отделами) «Совершенствование организационно-методической деятельности в учреждениях судебно-медицинской экспертизы» (г. СПб., 2005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заведующих медико-криминалистическими отделениями государственных судебно-медицинских экспертных учреждений СЗФО «Актуальные вопросы идентификации личности» (г. СПб., 2005 г.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вещание Главного судмедэксперта СЗФО и председателя судебно-медицинской ассоциации Северо-Запада России с ведущими адвокатами г. Санкт-Петербурга и СЗФО «Вопросы взаимодействия судебно-медицинских экспертов с коллегиями адвокатов» (СПб., 2007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5:04:37Z</dcterms:created>
  <dc:creator>Garyc</dc:creator>
  <dc:description/>
  <dc:language>en-US</dc:language>
  <cp:lastModifiedBy>garycL</cp:lastModifiedBy>
  <dcterms:modified xsi:type="dcterms:W3CDTF">2009-05-18T06:24:13Z</dcterms:modified>
  <cp:revision>31</cp:revision>
  <dc:subject/>
  <dc:title>Судебно-медицинская экспертиза  (СМС) РФ – единая государственная структура, образованная сетью федеральных и территориальных судебно-медицинских учреждений государственной системы здравоохранения. </dc:title>
</cp:coreProperties>
</file>