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C4531-8557-4F3C-87B1-D0024A8100F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1825-1EB6-4A0E-B152-56EDB0E0E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69C5-1E15-4743-8A79-073219691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28FE-51F0-4BAB-A894-BC993BD3C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B030-5F96-4EF3-907B-EDE103FBC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B9BC8-7723-4241-9001-EF037CA4D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1E830-4699-4619-8150-73C9578A1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FAD9D-400D-4C77-92EA-5B506312F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C21B8-65DE-44B0-ABE1-B28D54384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82DC4-5A1A-4394-9BE7-C2D81C7EC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2C3A4-2C87-42D1-A640-BEA196600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548CF-DB8A-4394-AC1C-5535F7AB7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6E9C-094C-4648-8FDC-2249C5AC4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C5C3A-F90F-40AE-92E7-DF3A85D31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D32F2-79AA-496A-99E4-6E4D81FB1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B82EF-36CC-4A57-9898-10577E358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507C6-E583-4F04-AD08-9612C1AEE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6917D-7429-4977-8448-F1568B818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1B45-0936-42BB-95F7-6E8C551B6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E9F4-ACCD-4265-83DB-A796D30F5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451A-FE02-4F8F-A2A1-BD361E540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F4B6-6E9C-4916-83F5-7D54617BB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3344-4405-4F79-945F-40C65F730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0197-4E2B-46BC-8022-65A6BE3B3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C0B6-1B73-46E6-90DE-569BE1107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77BC3-D187-4E6F-B7F9-F53712EB88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71BE4-0068-4039-B55C-16B1A8A935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836640"/>
            <a:ext cx="7772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Вопросы организации судебно-медицинской службы федерального округа в системе единой государственной судебно-медицинской экспертизы России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Г.И. Заславский</a:t>
            </a:r>
            <a:br>
              <a:rPr sz="2400"/>
            </a:b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И.Е. Лобан</a:t>
            </a:r>
            <a:br>
              <a:rPr sz="2400"/>
            </a:b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В.Л. Попов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77720" y="436320"/>
            <a:ext cx="818856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ВЫВОДЫ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нститут главных внештатных специалистов оправдал себя, но требует совершенствования, единого руководства и поддержки со стороны Министерства здравоохранения и социального развития РФ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азовые (окружные) бюро судебно-медицинской экспертизы должны стать важным звеном в системе управления государственной судебно-медицинской деятельностью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атус экспертного учреждения как базового (окружного) бюро должен определять Минздравсоцразвития России на конкурсной основ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ффективное выполнение межрегиональных функций предполагает необходимость дополнительного финансирования из федерального бюджет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64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Особенности современного этапа  развития судебно-медицинской экспертизы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539640" y="2276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9280" y="3860640"/>
            <a:ext cx="871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e5ffff"/>
                </a:solidFill>
                <a:latin typeface="Tahoma"/>
              </a:rPr>
              <a:t>Возрастание сложности  решаемых задач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e5ffff"/>
                </a:solidFill>
                <a:latin typeface="Tahoma"/>
              </a:rPr>
              <a:t>Повышение требований к качеству и результативности экспертных исследований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e5ffff"/>
                </a:solidFill>
                <a:latin typeface="Tahoma"/>
              </a:rPr>
              <a:t>Нестабильный уровень управляем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2781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ffff"/>
                </a:solidFill>
                <a:latin typeface="Tahoma"/>
              </a:rPr>
              <a:t>Судебно-медицинская экспертиза Российской Федерации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 –</a:t>
            </a:r>
            <a:br>
              <a:rPr sz="3200"/>
            </a:b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единая структура, образованная сетью федеральных и территориальных судебно-медицинских экспертных учреждений государственной системы здравоохранения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4360" y="836640"/>
            <a:ext cx="7885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50920" y="2492280"/>
            <a:ext cx="64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ФЕДЕРАЛЬ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50920" y="3141720"/>
            <a:ext cx="64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Times New Roman"/>
              </a:rPr>
              <a:t>2. МЕЖРЕГИОНАЛЬНЫЙ (окружной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050920" y="3860640"/>
            <a:ext cx="64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РЕГИОНАЛЬНЫЙ  (территориальный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0920" y="4508640"/>
            <a:ext cx="64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СТРУКТУР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050920" y="5084640"/>
            <a:ext cx="64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Times New Roman"/>
              </a:rPr>
              <a:t>5. ПЕРСОНАЛЬНЫЙ (самоуправлени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981000"/>
            <a:ext cx="9036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Иерархия субъектов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в системе управления государственной судебно-медицинской деятельностью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уровни управления)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13600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Основные функции базовых (окружных) бюро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8713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05800" indent="-50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оординация государственных и общественных органов по вопросам деятельности судебно-медицинской службы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0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взаимодействие с органами государственной власти, местного самоуправления и иными государственными и общественными институтами округ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0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межрегиональная внутриведомственная интеграция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, укрепление связей между экспертными учреждениями разных субъектов федерации, развитие форм их взаимодействия с органами управления и учреждениями государственной и муниципальной систем здравоохранения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0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межведомственная координация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 правоохранительными, судебны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05800" indent="-50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ahom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роизводство повторных и комиссионных экспертиз по сложным делам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05800" indent="-50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ahom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редоставление на договорной основе аппаратно-технических средств окружного бюро специалистам территориальных экспертных учреждений округ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05800" indent="-50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ahom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онсультативная и научно-методическая помощь сотрудникам территориальных бюро в выполнении экспертных и научных исследований, в освоении новых методик и технологий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0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0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4720" y="396360"/>
            <a:ext cx="8136000" cy="12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Основные функции базовых бюро</a:t>
            </a:r>
            <a:br>
              <a:rPr sz="32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(продолжение)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920" y="1457280"/>
            <a:ext cx="86421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ahoma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истематический анализ состояния судебно-медицинской работы в округе, сравнительный статистический анализ данных экспертных учреждений округа с информированием региональных бюро о результатах анализ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ahoma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оздание базы данных по убийствам с признаками серийности, межрегионального банка генетических паспортов объектов исследования, формирование научно-аналитических групп для анализа преступлений, имеющих признаки серийных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ahoma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разработка планов совместной работы в условиях чрезвычайных ситуаций, оказания экстренной консультативной и оперативной помощи в случаях техногенных катастроф, террористических актов и других происшествий с массовым числом жертв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ahoma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роведение аттестации врачей и среднего медицинского звена на межрегиональной аттестационной комисси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ahoma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одготовка и переподготовка врачебного и среднего медицинского персонала для региональных бюро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ahoma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рганизация и координация научных исследований – проведение  научно-практических конференций, семинаров, симпозиумов, выполнение совместных научных исследований, публикац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4720" y="396360"/>
            <a:ext cx="8136000" cy="12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Тематика научно-практических конференций</a:t>
            </a:r>
            <a:br>
              <a:rPr sz="2800"/>
            </a:b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(2004-2008 гг.)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 Международный конгресс Балтийской судебно-медицинской ассоциации (г. СПб., 2004 г.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«Спектральные методы исследования в судебной медицине» (г. СПб., 2004 г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«Судебно-медицинская экспертиза половых состояний» (г. СПб., 2006 г.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«Организационные и процессуальные вопросы судебно-биологической экспертизы» (разработана концепция развития судебно-медицинской биологии (г. СПб., 2007 г.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Международный семинар-совещание заведующих судебно-гистологическими отделениями и судебно-медицинских экспертов-гистологов СЗФО с участием экспертов многих регионов РФ, Украины и стран Балтии (г. СПб., 2007 г.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«Актуальные вопросы организации и проведения сложных экспертиз» (г. СПб., 2007 г.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«Организация взаимодействия и содержание работы судебно-медицинских экспертов и клиницистов при судебно-медицинской экспертизе черепно-мозговой травмы» (г. СПб, 2008 г.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«Организация и содержание планово-экономической работы в бюро судебно-медицинской экспертизы» (г. СПб., 2008 г.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8508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Тематика совещаний</a:t>
            </a:r>
            <a:br>
              <a:rPr sz="2800"/>
            </a:b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Экспертно-консультативного совета (2004-2009 гг.)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856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 формировании бригад быстрого реагирования для организации оперативной экспертной работы при возникновении чрезвычайных ситуаций с массовым числом жертв (СПб., 2004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Рассмотрение предложений по нормированию экспертной нагрузки и составлению штатного расписания бюро судебно-медицинской экспертизы (СПб., 2005; г. Калининград, 2008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 взаимодействии с учреждениями здравоохранения, прокуратурой и органами внутренних дел по обеспечению выполнения требований законодательства к организации хранения и захоронения невостребованных и неопознанных трупо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б этической комиссии ЭКС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стояние судебно-медицинской диагностики алкогольной интоксикаци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Концепция участия судебно-медицинской службы в реализации национального приоритетного направления «Здоровье»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 взаимодействии со структурами Следственного комитета при прокуратуре РФ (г. СПб., 2007 г., г. Калининград, 2008 г.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 совершенствовании управления судебно-медицинской службой (г. Сыктывкар, 2009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77720" y="436320"/>
            <a:ext cx="818856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Тематические рабочие совещаниях судебно-медицинских экспертов округа (2005-2008 гг.)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421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вещание судебно-медицинских экспертов генетиков СЗФО «Взаимодействие молекулярно-генетических подразделений СЗФО РФ» (г. СПб., 2005 г.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вещание заместителей начальников территориальных бюро судебно-медицинской экспертизы округа по организационно-методической работе (заведующих организационно-методическими отделами) «Совершенствование организационно-методической деятельности в учреждениях судебно-медицинской экспертизы» (г. СПб., 2005 г.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вещание заведующих медико-криминалистическими отделениями государственных судебно-медицинских экспертных учреждений СЗФО «Актуальные вопросы идентификации личности» (г. СПб., 2005 г.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вещание Главного судмедэксперта СЗФО и председателя судебно-медицинской ассоциации Северо-Запада России с ведущими адвокатами г. Санкт-Петербурга и СЗФО «Вопросы взаимодействия судебно-медицинских экспертов с коллегиями адвокатов» (СПб., 2007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05:04:37Z</dcterms:created>
  <dc:creator>Garyc</dc:creator>
  <dc:description/>
  <dc:language>en-US</dc:language>
  <cp:lastModifiedBy>garycL</cp:lastModifiedBy>
  <dcterms:modified xsi:type="dcterms:W3CDTF">2009-05-18T06:24:13Z</dcterms:modified>
  <cp:revision>31</cp:revision>
  <dc:subject/>
  <dc:title>Судебно-медицинская экспертиза  (СМС) РФ – единая государственная структура, образованная сетью федеральных и территориальных судебно-медицинских учреждений государственной системы здравоохранения. </dc:title>
</cp:coreProperties>
</file>