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E28-AF6E-4FAC-8610-609EDDD7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002-E025-4B3E-B395-24A46161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E75-3AE6-48C2-8E44-248442D0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D0B-FDF7-4401-A560-963A3232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88CA-4B13-474A-B9DF-EA3BB6C9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DF76-2680-4F04-A7C6-769F8DD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56D2-996A-4539-9FA8-2CE809C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C38B-6DCD-4CED-B9A1-AD7306F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B18A-555B-4B6D-9B99-F6A4553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911-D561-4687-900D-D8668B83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F8C-3B03-44DA-9CF3-E40FD38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52C-7D9B-4081-80D2-FAB77E7E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BE71-90A4-4B5E-8BF2-D4757927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5051-0BD9-4EBF-98BD-7CE2864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8AE3-9AEF-458C-9A71-29A96897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2EC-0012-4E6C-9E86-05C7C862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55A3-15C4-4F43-92C7-AE79FDE5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A99-16E6-4F19-8E57-318E843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209-4D25-4E3C-8649-DB6B0198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3AE-0CCD-4E2F-AF54-C1DEFB7A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718-6EC5-40B4-A1EF-BDEDEFB6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442-2ACB-4C0E-A168-67295CEA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EDA-1558-45AF-A3D4-39311DF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352-0BC4-4A44-B760-7423358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B1F-601E-400E-9EAC-B93CEF172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33E4-E361-4EA1-BD12-21061EAB84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371240"/>
            <a:ext cx="853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Некоторые предложения по единой схеме развития деятельности организационно-методических отделов территориальных бюро судебно-медицинской эксперти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0920" y="192240"/>
            <a:ext cx="9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Государственное учреждение здравоохранения Московск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юро судебно-медицинской экспертиз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64832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У. Кащан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В.А. Зазулин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skerville Old Face"/>
              </a:rPr>
              <a:t>М.С. Ривенс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654560"/>
            <a:ext cx="678204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Разработка единых критериев контроля качества  и сроков производства экспертиз в виде стандартов или алгоритмов по каждому виду экспертиз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Единый регламент производства контрольных мероприят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Разработка и внедрение единых форм текущей и периодической отче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Разработка единого специализированного программного обеспечения федерального центра и территориальных бюр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7760" y="55548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Направления организационно-методической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65560" y="496800"/>
            <a:ext cx="822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Формы качественного контроля производимых эксперт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00200"/>
            <a:ext cx="771192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1. Комплексные проверки заключений по все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2. Тематические проверки заключений по отдельным видам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А. Текущие проверки проектов заключений по случаям убийств и 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инерционных черепно-мозговых трав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Б. Периодические проверки по отдельным видам смер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3. Проверки актов медицинских освидетельствований и заключений по случаям причинения вреда здоров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4. Проверки случаев больничной летальности с установленным расхождением клинического и патологоанатомического диагно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НОВНЫЕ ПОКАЗАТЕЛИ РАБОТЫ ОРГАНИЗАЦИОННО-МЕТОДИЧЕСКОГО ОТДЕЛА ГУЗ МО БЮРО СМЭ ЗА 2004 - 2008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676520"/>
          <a:ext cx="8610480" cy="3941640"/>
        </p:xfrm>
        <a:graphic>
          <a:graphicData uri="http://schemas.openxmlformats.org/drawingml/2006/table">
            <a:tbl>
              <a:tblPr/>
              <a:tblGrid>
                <a:gridCol w="3376440"/>
                <a:gridCol w="1062360"/>
                <a:gridCol w="1062000"/>
                <a:gridCol w="1060200"/>
                <a:gridCol w="1025640"/>
                <a:gridCol w="1023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.-практ. кон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учаи из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седания методич. со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ксн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еская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ые пись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естация врач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ш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ая 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. усовершен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4572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ЦЕНКА ВЫВОДОВ ПЕРВИЧНЫХ ЭКСПЕРТИЗ ПРИ ПРОВЕДЕНИИ ПОВТОРНЫХ ЗА  2005 - 2007 гг. (по экспертизам потерпевших).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000" y="1979640"/>
          <a:ext cx="8856720" cy="3254400"/>
        </p:xfrm>
        <a:graphic>
          <a:graphicData uri="http://schemas.openxmlformats.org/drawingml/2006/table">
            <a:tbl>
              <a:tblPr/>
              <a:tblGrid>
                <a:gridCol w="2808360"/>
                <a:gridCol w="2232000"/>
                <a:gridCol w="1873080"/>
                <a:gridCol w="1943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выв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первичных освидетельств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подтвержд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22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– 4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25 – 4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допол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– 35,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25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Times New Roman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воды измен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– 41,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% от общего числа экспертиз потерпевш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– 33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33"/>
                          </a:solidFill>
                          <a:latin typeface="Arial"/>
                        </a:rPr>
                        <a:t>17 – 2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% от общего числа экспертиз потерпевш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 Е Г 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48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РОКИ  ПРОИЗВОДСТВА  ЭКСПЕРТИЗ  ТРУПОВ  ЗА  ПЕРИОД 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8000" y="1638360"/>
          <a:ext cx="8928000" cy="3581280"/>
        </p:xfrm>
        <a:graphic>
          <a:graphicData uri="http://schemas.openxmlformats.org/drawingml/2006/table">
            <a:tbl>
              <a:tblPr/>
              <a:tblGrid>
                <a:gridCol w="660240"/>
                <a:gridCol w="1535400"/>
                <a:gridCol w="1244520"/>
                <a:gridCol w="1170000"/>
                <a:gridCol w="1319040"/>
                <a:gridCol w="1316160"/>
                <a:gridCol w="16826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0-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5-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39-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5-3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6 - 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5-13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93-2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11-25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64-3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6 - 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90 - 3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83 - 58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3 - 8,3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94 - 35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17 - 6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2 - 2,6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6,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41 - 3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84-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82-31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 - 1,3%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Ф 13,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53 - 3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76-2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20-4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 - 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86 – 3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32 -23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28-42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5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1,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72 – 31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22 – 1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10 – 47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7 – 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Ф 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8-2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9-22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88-4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- 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756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В СЛУЧАЯХ УБИЙСТВ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ЕРИОД 2000 - 2008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219320"/>
          <a:ext cx="8713800" cy="4897440"/>
        </p:xfrm>
        <a:graphic>
          <a:graphicData uri="http://schemas.openxmlformats.org/drawingml/2006/table">
            <a:tbl>
              <a:tblPr/>
              <a:tblGrid>
                <a:gridCol w="908280"/>
                <a:gridCol w="1062000"/>
                <a:gridCol w="1288800"/>
                <a:gridCol w="1363680"/>
                <a:gridCol w="1440000"/>
                <a:gridCol w="1363680"/>
                <a:gridCol w="1287360"/>
              </a:tblGrid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неде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 - 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- 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6 - 19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7 - 5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3 - 16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 – 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9 – 8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 – 22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 - 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 – 2,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 -  8,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 – 18,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1 – 55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8 - 1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 - 10,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8 - 85,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 - 3,68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 - 12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 - 28,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8 -56,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- 2,87%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 - 9,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 - 23,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1 -64,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- 2,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- 7,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2 – 23,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8 -67,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- 2,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– 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4 – 19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1 – 7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– 3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6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– 18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5 – 73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– 2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РОКИ ПРОИЗВОДСТВА ЭКСПЕРТИЗ (ИССЛЕДОВАНИЙ) ПОТЕРПЕВШИХ, ОБВИНЯЕМЫХ И ДРУГИХ ЛИЦ ЗА 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341360"/>
          <a:ext cx="8964720" cy="1940040"/>
        </p:xfrm>
        <a:graphic>
          <a:graphicData uri="http://schemas.openxmlformats.org/drawingml/2006/table">
            <a:tbl>
              <a:tblPr/>
              <a:tblGrid>
                <a:gridCol w="1957320"/>
                <a:gridCol w="1731960"/>
                <a:gridCol w="1689120"/>
                <a:gridCol w="1852920"/>
                <a:gridCol w="173340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4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30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1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бсолютн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2007г – 0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2716200"/>
          <a:ext cx="84675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716200"/>
                    <a:ext cx="84675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86040"/>
            <a:ext cx="89280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ЕРВИЧНЫХ ЭКСПЕРТИЗ ПРИ ПРОВЕДЕНИИ ПОВТОР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 ДОПОЛНИТЕЛЬНЫХ КОМИССИОННЫХ ЭКСПЕРТ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ЗА 2000 - 200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484280"/>
          <a:ext cx="8763120" cy="4830840"/>
        </p:xfrm>
        <a:graphic>
          <a:graphicData uri="http://schemas.openxmlformats.org/drawingml/2006/table">
            <a:tbl>
              <a:tblPr/>
              <a:tblGrid>
                <a:gridCol w="2079720"/>
                <a:gridCol w="668520"/>
                <a:gridCol w="668160"/>
                <a:gridCol w="743040"/>
                <a:gridCol w="623880"/>
                <a:gridCol w="797040"/>
                <a:gridCol w="817560"/>
                <a:gridCol w="852480"/>
                <a:gridCol w="796680"/>
                <a:gridCol w="716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ые исследования 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вторных и дополнительных экспер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ы эксгум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е кол-ва комис. Экспертиз к общему количеству вскрыт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комиссионных экспертиз с изменен. выводами к общему количеству исслед. труп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0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ксперт</cp:lastModifiedBy>
  <dcterms:modified xsi:type="dcterms:W3CDTF">2009-05-20T05:35:0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