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0A0-5CB3-4D7E-A914-A06BEE6D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96E-0382-47DA-B224-2041862E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BFCA-65A2-488B-A0D7-CB9BBBBC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AAA-4B87-4BD4-B332-F900084C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D22E-AB3C-45D2-B73E-81CFC5AA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0B7B-F47B-42E1-B345-306B84D7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C63B-BCD6-4F3A-A183-2B861046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DCD0-5EC0-43FA-BAD4-87651C15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C05B-5846-4DC3-91CE-B9660970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DE54-4F85-4F7C-ADE8-08F0C136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70F4-516A-4B3B-8A0B-98B7E108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0CB-695C-4D63-AF04-FD402FCF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41E5-137F-4366-8BBC-717F2336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9BC7-183D-4DD1-B0A2-ED0F273C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11C1-31FC-48F0-904E-283D69C7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31A7-8650-463B-945D-7C87BC16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361A-B471-4839-BD0C-D07FBB08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5F1D-71AD-4C22-8C97-4EF8E59C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8F1D-648B-4B34-9EF6-A59EA9CD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DC08-A70C-453B-97A2-0C99C4A0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494-B1E7-4775-A346-1531F314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98B-E32B-4E26-B661-B2490468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A65-6ABF-457B-8C87-007BBA46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BE6A-F80C-4E82-8C3A-2664993D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42AF-3777-476D-8C83-F24EE7C665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F5D3-7AC0-4A84-B5C4-CEE49E7DD4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1371240"/>
            <a:ext cx="8539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Некоторые предложения по единой схеме развития деятельности организационно-методических отделов территориальных бюро судебно-медицинской эксперти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50920" y="192240"/>
            <a:ext cx="972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Государственное учреждение здравоохранения Москов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Бюро судебно-медицинской экспертиз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4648320"/>
            <a:ext cx="32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askerville Old Face"/>
              </a:rPr>
              <a:t>В.У. Кащанов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askerville Old Face"/>
              </a:rPr>
              <a:t>В.А. Зазулин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askerville Old Face"/>
              </a:rPr>
              <a:t>М.С. Ривенс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3880" y="1654560"/>
            <a:ext cx="67820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Разработка единых критериев контроля качества  и сроков производства экспертиз в виде стандартов или алгоритмов по каждому виду экспертиз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2. Единый регламент производства контрольных мероприят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3. Разработка и внедрение единых форм текущей и периодической отчет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4. Разработка единого специализированного программного обеспечения федерального центра и территориальных бюр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7760" y="555480"/>
            <a:ext cx="758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Направления организационно-методической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65560" y="496800"/>
            <a:ext cx="822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Формы качественного контроля производимых эксперт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600200"/>
            <a:ext cx="7711920" cy="65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1. Комплексные проверки заключений по всем видам смер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2. Тематические проверки заключений по отдельным видам смер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А. Текущие проверки проектов заключений по случаям убийств и </a:t>
            </a: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инерционных черепно-мозговых трав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Б. Периодические проверки по отдельным видам смер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3. Проверки актов медицинских освидетельствований и заключений по случаям причинения вреда здоровь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4. Проверки случаев больничной летальности с установленным расхождением клинического и патологоанатомического диагно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8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СНОВНЫЕ ПОКАЗАТЕЛИ РАБОТЫ ОРГАНИЗАЦИОННО-МЕТОДИЧЕСКОГО ОТДЕЛА ГУЗ МО БЮРО СМЭ ЗА 2004 - 2008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676520"/>
          <a:ext cx="8610480" cy="3941640"/>
        </p:xfrm>
        <a:graphic>
          <a:graphicData uri="http://schemas.openxmlformats.org/drawingml/2006/table">
            <a:tbl>
              <a:tblPr/>
              <a:tblGrid>
                <a:gridCol w="3376440"/>
                <a:gridCol w="1062360"/>
                <a:gridCol w="1062000"/>
                <a:gridCol w="1060200"/>
                <a:gridCol w="1025640"/>
                <a:gridCol w="1023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учн.-практ. конфер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учаи из пр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седания методич. со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лексная прове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атическая прове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ормационные пись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тестация врач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шая 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вая 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торая 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н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атич. усовершенств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4572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ОЦЕНКА ВЫВОДОВ ПЕРВИЧНЫХ ЭКСПЕРТИЗ ПРИ ПРОВЕДЕНИИ ПОВТОРНЫХ ЗА  2005 - 2007 гг. (по экспертизам потерпевших).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8000" y="1979640"/>
          <a:ext cx="8856720" cy="3254400"/>
        </p:xfrm>
        <a:graphic>
          <a:graphicData uri="http://schemas.openxmlformats.org/drawingml/2006/table">
            <a:tbl>
              <a:tblPr/>
              <a:tblGrid>
                <a:gridCol w="2808360"/>
                <a:gridCol w="2232000"/>
                <a:gridCol w="1873080"/>
                <a:gridCol w="19432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выв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количество первичных освидетельств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воды подтвержд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– 22,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– 40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33"/>
                          </a:solidFill>
                          <a:latin typeface="Times New Roman"/>
                        </a:rPr>
                        <a:t>25 – 42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воды дополн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– 35,8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– 25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33"/>
                          </a:solidFill>
                          <a:latin typeface="Times New Roman"/>
                        </a:rPr>
                        <a:t>17 – 28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воды измен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– 41,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% от общего числа экспертиз потерпевши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– 33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7% от общего числа экспертиз потерпевш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17 – 28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7% от общего числа экспертиз потерпевш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 Е Г 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54864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РОКИ  ПРОИЗВОДСТВА  ЭКСПЕРТИЗ  ТРУПОВ  ЗА  ПЕРИОД  2000 - 2008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8000" y="1638360"/>
          <a:ext cx="8928000" cy="3581280"/>
        </p:xfrm>
        <a:graphic>
          <a:graphicData uri="http://schemas.openxmlformats.org/drawingml/2006/table">
            <a:tbl>
              <a:tblPr/>
              <a:tblGrid>
                <a:gridCol w="660240"/>
                <a:gridCol w="1535400"/>
                <a:gridCol w="1244520"/>
                <a:gridCol w="1170000"/>
                <a:gridCol w="1319040"/>
                <a:gridCol w="1316160"/>
                <a:gridCol w="1682640"/>
              </a:tblGrid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  труп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дел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4 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0-9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5-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39-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55-34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76 - 12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7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5-13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93-20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11-25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64-33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6 - 7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6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90 - 33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83 - 58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83 - 8,3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94 - 35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17 - 62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2 - 2,6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Ф 16,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6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41 - 36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84-3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982-31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5 - 1,3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Ф 13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5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53 - 34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76-24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20-4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3 - 1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86 – 32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32 -23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28-42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5 – 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РФ 11,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72 – 31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22 – 19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10 – 47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7 – 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РФ 1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4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88-27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49-22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88-48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8- 0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9280" y="75600"/>
            <a:ext cx="871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РОКИ ПРОИЗВОДСТВА ЭКСПЕРТИЗ В СЛУЧАЯХ УБИЙСТВ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ЕРИОД 2000 - 2008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1219320"/>
          <a:ext cx="8713800" cy="4897440"/>
        </p:xfrm>
        <a:graphic>
          <a:graphicData uri="http://schemas.openxmlformats.org/drawingml/2006/table">
            <a:tbl>
              <a:tblPr/>
              <a:tblGrid>
                <a:gridCol w="908280"/>
                <a:gridCol w="1062000"/>
                <a:gridCol w="1288800"/>
                <a:gridCol w="1363680"/>
                <a:gridCol w="1440000"/>
                <a:gridCol w="1363680"/>
                <a:gridCol w="128736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п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д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 - 2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 - 6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6 - 19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7 - 54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3 - 16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 – 2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9 – 8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 – 22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1 – 5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4 - 1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 – 2,5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 -  8,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 – 18,8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1 – 55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8 - 15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6 - 10,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8 - 85,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 - 3,68%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3 - 12,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8  - 28,6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8 -56,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 - 2,87%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 - 9,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5 - 23,4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1 -64,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- 2,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 - 7,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2 – 23,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8 -67,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 - 2,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– 6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4 – 19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1 – 7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 – 3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 - 6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 – 18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5 – 73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– 2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РОКИ ПРОИЗВОДСТВА ЭКСПЕРТИЗ (ИССЛЕДОВАНИЙ) ПОТЕРПЕВШИХ, ОБВИНЯЕМЫХ И ДРУГИХ ЛИЦ ЗА 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1341360"/>
          <a:ext cx="8964720" cy="1940040"/>
        </p:xfrm>
        <a:graphic>
          <a:graphicData uri="http://schemas.openxmlformats.org/drawingml/2006/table">
            <a:tbl>
              <a:tblPr/>
              <a:tblGrid>
                <a:gridCol w="1957320"/>
                <a:gridCol w="1731960"/>
                <a:gridCol w="1689120"/>
                <a:gridCol w="1852920"/>
                <a:gridCol w="173340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4 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-30 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ыше 1 меся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бсолютное 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2007г – 0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95280" y="2716200"/>
          <a:ext cx="84675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716200"/>
                    <a:ext cx="84675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8000" y="86040"/>
            <a:ext cx="892800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ЕРВИЧНЫХ ЭКСПЕРТИЗ ПРИ ПРОВЕДЕНИИ ПОВТОР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И ДОПОЛНИТЕЛЬНЫХ КОМИССИОННЫХ ЭКСПЕРТ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ЗА 2000 - 2008 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280" y="1484280"/>
          <a:ext cx="8763120" cy="4830840"/>
        </p:xfrm>
        <a:graphic>
          <a:graphicData uri="http://schemas.openxmlformats.org/drawingml/2006/table">
            <a:tbl>
              <a:tblPr/>
              <a:tblGrid>
                <a:gridCol w="2079720"/>
                <a:gridCol w="668520"/>
                <a:gridCol w="668160"/>
                <a:gridCol w="743040"/>
                <a:gridCol w="623880"/>
                <a:gridCol w="797040"/>
                <a:gridCol w="817560"/>
                <a:gridCol w="852480"/>
                <a:gridCol w="796680"/>
                <a:gridCol w="71604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ые исследования  труп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7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6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6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5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4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вторных и дополнительных эксперти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ы эксгума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шение кол-ва комис. Экспертиз к общему количеству вскрыт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нт комиссионных экспертиз с изменен. выводами к общему количеству исслед. труп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4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5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9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Эксперт</cp:lastModifiedBy>
  <dcterms:modified xsi:type="dcterms:W3CDTF">2009-05-20T05:35:0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