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5E3-2300-4EDE-B17A-839CEF81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E4F-FD7A-4652-B25D-8905170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933-7C85-4A69-A429-7046B59B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4A6-5DFD-48C5-AF52-BBCAB79F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A8BB-9196-4249-8BCB-1698AF89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6276-77D4-4C15-BC61-21097AA5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1863-80C2-453B-AC10-F381F4B5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9371-143A-43AD-966C-977D017A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2107-1F49-4385-9BC2-2D82B836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5B97-F4C7-41AC-82FD-3A37FC3E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BCF7-1B95-484F-AEAF-061B8F0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8B7-4F7B-4D22-ABA1-4078D7F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05F9-D577-4FE4-93FD-20CD3E20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BF23-BD60-4DE0-BE00-9B20C4B5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2018-E620-428B-B40C-6E895C9A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10B2-6CD6-484D-8769-A610CC26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FDF2-F818-4E15-96B4-E4226DCF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E97-CB57-4414-89A1-97AD5CDB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E8D-FC78-4604-BE64-40217F50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BAC-9E89-4705-B1FC-D65EA801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F54-30A2-4468-A143-C5C0281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F0E-C37F-433A-BDF5-8E8F2E70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7BF-76F9-4119-B3DF-1058F00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136-08BE-4481-B33F-9E598F7F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13C-DB7A-4EBF-9FA6-F694329370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85DA-6C76-4FDA-8ECF-D3C5AAD3C7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371240"/>
            <a:ext cx="8539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Некоторые предложения по единой схеме развития деятельности организационно-методических отделов территориальных бюро судебно-медицинской эксперти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0920" y="192240"/>
            <a:ext cx="9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Государственное учреждение здравоохранения Москов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Бюро судебно-медицинской экспертиз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64832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В.У. Кащан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В.А. Зазулин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М.С. Ривенс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654560"/>
            <a:ext cx="67820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Разработка единых критериев контроля качества  и сроков производства экспертиз в виде стандартов или алгоритмов по каждому виду экспертиз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2. Единый регламент производства контрольных мероприят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3. Разработка и внедрение единых форм текущей и периодической отчет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4. Разработка единого специализированного программного обеспечения федерального центра и территориальных бюр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7760" y="555480"/>
            <a:ext cx="75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Направления организационно-методическо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65560" y="496800"/>
            <a:ext cx="822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Формы качественного контроля производимых эксперт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600200"/>
            <a:ext cx="7711920" cy="65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1. Комплексные проверки заключений по всем видам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2. Тематические проверки заключений по отдельным видам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А. Текущие проверки проектов заключений по случаям убийств и 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инерционных черепно-мозговых трав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Б. Периодические проверки по отдельным видам смер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3. Проверки актов медицинских освидетельствований и заключений по случаям причинения вреда здоров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4. Проверки случаев больничной летальности с установленным расхождением клинического и патологоанатомического диагно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НОВНЫЕ ПОКАЗАТЕЛИ РАБОТЫ ОРГАНИЗАЦИОННО-МЕТОДИЧЕСКОГО ОТДЕЛА ГУЗ МО БЮРО СМЭ ЗА 2004 - 2008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676520"/>
          <a:ext cx="8610480" cy="3941640"/>
        </p:xfrm>
        <a:graphic>
          <a:graphicData uri="http://schemas.openxmlformats.org/drawingml/2006/table">
            <a:tbl>
              <a:tblPr/>
              <a:tblGrid>
                <a:gridCol w="3376440"/>
                <a:gridCol w="1062360"/>
                <a:gridCol w="1062000"/>
                <a:gridCol w="1060200"/>
                <a:gridCol w="1025640"/>
                <a:gridCol w="1023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учн.-практ. конфер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учаи из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седания методич. со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ксная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еская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ормационные пи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естация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ш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тор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. усовершен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4572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ОЦЕНКА ВЫВОДОВ ПЕРВИЧНЫХ ЭКСПЕРТИЗ ПРИ ПРОВЕДЕНИИ ПОВТОРНЫХ ЗА  2005 - 2007 гг. (по экспертизам потерпевших)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000" y="1979640"/>
          <a:ext cx="8856720" cy="3254400"/>
        </p:xfrm>
        <a:graphic>
          <a:graphicData uri="http://schemas.openxmlformats.org/drawingml/2006/table">
            <a:tbl>
              <a:tblPr/>
              <a:tblGrid>
                <a:gridCol w="2808360"/>
                <a:gridCol w="2232000"/>
                <a:gridCol w="1873080"/>
                <a:gridCol w="1943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выв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количество первичных освидетельств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подтвержд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– 22,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– 40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Times New Roman"/>
                        </a:rPr>
                        <a:t>25 – 42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допол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– 35,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25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Times New Roman"/>
                        </a:rPr>
                        <a:t>17 – 2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изме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– 41,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% от общего числа экспертиз потерпевш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– 33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% от общего числа экспертиз потерпе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17 – 2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% от общего числа экспертиз потерпе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 Е Г 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48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РОКИ  ПРОИЗВОДСТВА  ЭКСПЕРТИЗ  ТРУПОВ  ЗА  ПЕРИОД  2000 - 200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1638360"/>
          <a:ext cx="8928000" cy="3581280"/>
        </p:xfrm>
        <a:graphic>
          <a:graphicData uri="http://schemas.openxmlformats.org/drawingml/2006/table">
            <a:tbl>
              <a:tblPr/>
              <a:tblGrid>
                <a:gridCol w="660240"/>
                <a:gridCol w="1535400"/>
                <a:gridCol w="1244520"/>
                <a:gridCol w="1170000"/>
                <a:gridCol w="1319040"/>
                <a:gridCol w="1316160"/>
                <a:gridCol w="168264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тр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ел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4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0-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5-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39-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55-3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6 - 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5-13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93-2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11-25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64-3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 - 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90 - 3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83 - 58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3 - 8,3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94 - 35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17 - 62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2 - 2,6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Ф 16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41 - 36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84-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82-31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 - 1,3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Ф 13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53 - 3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6-2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20-4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3 - 1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86 – 3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32 -23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28-42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 – 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Ф 11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72 – 31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22 – 1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10 – 47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7 – 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Ф 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8-2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9-22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88-4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- 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7560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РОКИ ПРОИЗВОДСТВА ЭКСПЕРТИЗ В СЛУЧАЯХ УБИЙСТВ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РИОД 2000 - 200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219320"/>
          <a:ext cx="8713800" cy="4897440"/>
        </p:xfrm>
        <a:graphic>
          <a:graphicData uri="http://schemas.openxmlformats.org/drawingml/2006/table">
            <a:tbl>
              <a:tblPr/>
              <a:tblGrid>
                <a:gridCol w="908280"/>
                <a:gridCol w="1062000"/>
                <a:gridCol w="1288800"/>
                <a:gridCol w="1363680"/>
                <a:gridCol w="1440000"/>
                <a:gridCol w="1363680"/>
                <a:gridCol w="1287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 - 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- 6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6 - 19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7 - 5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3 - 16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 – 2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 – 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 – 2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1 – 5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 - 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 – 2,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 -  8,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 – 18,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1 – 55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8 - 1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 - 10,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8 - 85,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 - 3,68%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 - 12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 - 28,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8 -56,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 - 2,87%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 - 9,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 - 23,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1 -64,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- 2,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 - 7,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 – 23,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8 -67,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- 2,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– 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 – 1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1 – 7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– 3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- 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 – 18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5 – 7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– 2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РОКИ ПРОИЗВОДСТВА ЭКСПЕРТИЗ (ИССЛЕДОВАНИЙ) ПОТЕРПЕВШИХ, ОБВИНЯЕМЫХ И ДРУГИХ ЛИЦ ЗА 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341360"/>
          <a:ext cx="8964720" cy="1940040"/>
        </p:xfrm>
        <a:graphic>
          <a:graphicData uri="http://schemas.openxmlformats.org/drawingml/2006/table">
            <a:tbl>
              <a:tblPr/>
              <a:tblGrid>
                <a:gridCol w="1957320"/>
                <a:gridCol w="1731960"/>
                <a:gridCol w="1689120"/>
                <a:gridCol w="1852920"/>
                <a:gridCol w="173340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4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30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ыше 1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солютное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2007г – 0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2716200"/>
          <a:ext cx="8467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716200"/>
                    <a:ext cx="8467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8000" y="86040"/>
            <a:ext cx="8928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ЕРВИЧНЫХ ЭКСПЕРТИЗ ПРИ ПРОВЕДЕНИИ ПОВТОР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 ДОПОЛНИТЕЛЬНЫХ КОМИССИОННЫХ ЭКСПЕРТ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А 2000 - 2008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484280"/>
          <a:ext cx="8763120" cy="4830840"/>
        </p:xfrm>
        <a:graphic>
          <a:graphicData uri="http://schemas.openxmlformats.org/drawingml/2006/table">
            <a:tbl>
              <a:tblPr/>
              <a:tblGrid>
                <a:gridCol w="2079720"/>
                <a:gridCol w="668520"/>
                <a:gridCol w="668160"/>
                <a:gridCol w="743040"/>
                <a:gridCol w="623880"/>
                <a:gridCol w="797040"/>
                <a:gridCol w="817560"/>
                <a:gridCol w="852480"/>
                <a:gridCol w="796680"/>
                <a:gridCol w="71604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е исследования  труп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вторных и дополнительных эксперт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ы эксгум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е кол-ва комис. Экспертиз к общему количеству вскры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комиссионных экспертиз с изменен. выводами к общему количеству исслед. труп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ксперт</cp:lastModifiedBy>
  <dcterms:modified xsi:type="dcterms:W3CDTF">2009-05-20T05:35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